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109C79-E313-453A-967C-62DFC463DE4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Jun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35A880-DECB-466C-BDA8-9D0E9865AA1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5B07E0-4F49-4D62-A6D3-2BC20F922D5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85960" y="4703400"/>
            <a:ext cx="48686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F8D-099D-4351-B9E2-F1F262D1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012-49A5-4378-83C2-5D66694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7B9-CAAF-4A47-8574-FF44EC92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C90-7DF0-482F-B396-EBDB5406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F2A-BC30-4DE4-A86E-A656E686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D91-B364-4F33-B0F4-8E863B7E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81F-081A-425B-B86B-7737C80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254-4E42-4331-903F-3C0A4D96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1B5-E187-4D0A-B2AA-AE6DA343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92A-FE22-45DE-97CE-9EC4712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435A-63D6-4D1A-A5D9-8B27BFA9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DE8-6CE0-42B7-A883-2956D03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437B-E476-46CD-8D1E-9C38AE227BA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bulkmail.htm" TargetMode="External"/><Relationship Id="rId2" Type="http://schemas.openxmlformats.org/officeDocument/2006/relationships/hyperlink" Target="http://hkupop.hku.hk/chinese/resources/workshops/20050721/bulkmail.ht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hkupop.hku.hk/chinese/resources/workshops/20050721/tp0507a_que.html" TargetMode="External"/><Relationship Id="rId2" Type="http://schemas.openxmlformats.org/officeDocument/2006/relationships/hyperlink" Target="http://hkupop.hku.hk/chinese/resources/workshops/20050721/tp0507a_admin.html" TargetMode="External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kupop.hku.hk/" TargetMode="External"/><Relationship Id="rId2" Type="http://schemas.openxmlformats.org/officeDocument/2006/relationships/hyperlink" Target="http://hkupop.hku.hk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Workshop on Project Management</a:t>
            </a:r>
            <a:br>
              <a:rPr sz="2800"/>
            </a:b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for Correctional Services Department Officers</a:t>
            </a:r>
            <a:br>
              <a:rPr sz="28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1 July 2005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1295280"/>
            <a:ext cx="5029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143000"/>
          <a:ext cx="15368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1536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14400" y="4952880"/>
            <a:ext cx="7543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ffffcc"/>
                </a:solidFill>
                <a:latin typeface="Times New Roman"/>
              </a:rPr>
              <a:t>Dr Robert CHUNG Ting-yiu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800" spc="-1" strike="noStrike">
                <a:solidFill>
                  <a:srgbClr val="ffffcc"/>
                </a:solidFill>
                <a:latin typeface="Times New Roman"/>
              </a:rPr>
              <a:t>(Director of Public Opinion Programme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1337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Secretary for Administration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Rafael Hui Si-ya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Chief Secretary for Administration Rafael Hui Si-ya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Financial Secretary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Henry Tang Ying-y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Financial Secretary Henry Tang Ying-ye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1337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Secretary for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Justice Elsie Leung Oi-sie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, with 0 indicating absolutely not supportive, 100 indicating absolutely supportive and 50 indicating half-half. How would you rate Secretary for Justice Elsie Leung Oi-sie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[Similar questions for John Tsang Chun-wah, Michael Suen Ming-yeung, Arthur Li Kwok-cheung, York Chow Yat-ngok, Joseph Wong Wing-ping, Patrick Ho Chi-ping, Ambrose Lee Siu-kwong , Stephen Ip Shu-kwan, Sarah Liao Sau-tung, Frederick Ma Si-hang and Stephen Lam Sui-lung.]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990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tandard Demographic Question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666880"/>
            <a:ext cx="7010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Registered voter? Any voting experience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Gender, age, education attainment, occup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Housing typ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Arial"/>
              </a:rPr>
              <a:t>Class status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lace of birth, years of residence in H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anaging the Medi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00200" y="3276720"/>
            <a:ext cx="6324480" cy="24382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2438280"/>
            <a:ext cx="7543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The original POP press release of 12 July 2005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Chinese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Press release in English, 13:5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388e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388ec8"/>
                </a:solidFill>
                <a:latin typeface="Times New Roman"/>
              </a:rPr>
              <a:t>Bulkfax to all media, 14:08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Bulkmail</a:t>
            </a:r>
            <a:r>
              <a:rPr b="0" lang="zh-TW" sz="2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 via the POP Network, 14:02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0" y="3429000"/>
            <a:ext cx="441972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etro Radio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5:01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Ming Pao, 15:19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3880" y="3429000"/>
            <a:ext cx="6248520" cy="281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57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43828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Reports by the electronic med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RTHK news, 18:0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CR news, 15:28 (web),</a:t>
            </a:r>
            <a:r>
              <a:rPr b="1" lang="zh-TW" sz="2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:00 (audio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ATV news, 18:00 </a:t>
            </a:r>
            <a:r>
              <a:rPr b="1" lang="zh-TW" sz="2600" spc="-1" strike="noStrike">
                <a:solidFill>
                  <a:srgbClr val="0000cc"/>
                </a:solidFill>
                <a:latin typeface="Times New Roman"/>
              </a:rPr>
              <a:t>(Webpage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 algn="ctr">
              <a:lnSpc>
                <a:spcPct val="150000"/>
              </a:lnSpc>
              <a:spcBef>
                <a:spcPts val="64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ecff"/>
                </a:solidFill>
                <a:latin typeface="Times New Roman"/>
              </a:rPr>
              <a:t>TVB news, 18:30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048120"/>
            <a:ext cx="228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pple Dail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2a_20050713_Apple%20Daily_曾蔭權民望跌%20許仕仁逾60分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2438280" cy="563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Wen Wei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7" name="2a_20050713_Wen%20Wei%20Pao_曾蔭權支持率%20升至77%25" descr=""/>
          <p:cNvPicPr/>
          <p:nvPr/>
        </p:nvPicPr>
        <p:blipFill>
          <a:blip r:embed="rId1"/>
          <a:stretch/>
        </p:blipFill>
        <p:spPr>
          <a:xfrm>
            <a:off x="1496880" y="1295280"/>
            <a:ext cx="3075120" cy="501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Standard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2a_20050713_HK%20Standard_Chief's%20popularity%20lifting%20his%20associates,%20says%20poll" descr=""/>
          <p:cNvPicPr/>
          <p:nvPr/>
        </p:nvPicPr>
        <p:blipFill>
          <a:blip r:embed="rId1"/>
          <a:stretch/>
        </p:blipFill>
        <p:spPr>
          <a:xfrm>
            <a:off x="380880" y="2427120"/>
            <a:ext cx="8458200" cy="212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M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2a_20050713_Ming%20Pao_官員民望許仕仁入三甲" descr=""/>
          <p:cNvPicPr/>
          <p:nvPr/>
        </p:nvPicPr>
        <p:blipFill>
          <a:blip r:embed="rId1"/>
          <a:stretch/>
        </p:blipFill>
        <p:spPr>
          <a:xfrm>
            <a:off x="1339920" y="1066680"/>
            <a:ext cx="3187800" cy="556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525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Oriental Daily    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20050713_oriental%20daily" descr=""/>
          <p:cNvPicPr/>
          <p:nvPr/>
        </p:nvPicPr>
        <p:blipFill>
          <a:blip r:embed="rId1"/>
          <a:stretch/>
        </p:blipFill>
        <p:spPr>
          <a:xfrm>
            <a:off x="762120" y="2228760"/>
            <a:ext cx="7772400" cy="244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Si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7" name="2a_20050713_Sing%20Pao_許仕仁初上任民望超60分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146320" cy="563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Tai Kung P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2" name="2a_20050713_Ta%20Kung%20Pao_許仕仁民望逾60分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2167200" cy="55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Sing Ta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2a_20050713_Sing%20Tao%20Daily_許仕仁民望排第三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2666880" cy="563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04812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Journal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2" name="2a_20050713_HK%20Economic%20Journal_許仕仁民望受惠於特首" descr=""/>
          <p:cNvPicPr/>
          <p:nvPr/>
        </p:nvPicPr>
        <p:blipFill>
          <a:blip r:embed="rId1"/>
          <a:stretch/>
        </p:blipFill>
        <p:spPr>
          <a:xfrm>
            <a:off x="1371600" y="1150920"/>
            <a:ext cx="2908440" cy="547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91440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3048120"/>
            <a:ext cx="2590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ong Kong Economic Tim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13 July 200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7" name="20050713_hket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4419720" cy="362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Media Reporting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2514600"/>
            <a:ext cx="6324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Characteristics of “media polls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Agenda setting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Tend to focus on negative feeling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Sensationalism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Rich graphics to achieve visual impact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24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imes New Roman"/>
              </a:rPr>
              <a:t>Extensive coverage for exclusive polls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9810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he Operation of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inion Research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83808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cffff"/>
                </a:solidFill>
                <a:latin typeface="Times New Roman"/>
              </a:rPr>
              <a:t>Outline of Workshop</a:t>
            </a:r>
            <a:endParaRPr b="0" lang="en-US" sz="4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514600"/>
            <a:ext cx="7467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One case study of opinion research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role of the medi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The operation and management research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Compilation of project repor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Explanation and assignment of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692280" indent="-69228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Discussion sess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64832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581280"/>
            <a:ext cx="647676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248520" y="3162240"/>
            <a:ext cx="1143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00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51460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 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Audio: TP0507a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705720" y="457200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3962520"/>
            <a:ext cx="914400" cy="380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ration of the Survey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0574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Demonstration of POP’s oper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CATI and WEBCAT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WEBCATI input demonstration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ffffcc"/>
                </a:solidFill>
                <a:uFillTx/>
                <a:latin typeface="Times New Roman"/>
              </a:rPr>
              <a:t>Quality control (q/c) measures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TP0507a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ffff"/>
                </a:solidFill>
                <a:latin typeface="Times New Roman"/>
              </a:rPr>
              <a:t>Press releases (to be discussed later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he Operation of Opinion Research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1752480"/>
            <a:ext cx="7391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Times New Roman"/>
              </a:rPr>
              <a:t>Different stages in conducting an “opinion poll”</a:t>
            </a:r>
            <a:endParaRPr b="0" lang="en-US" sz="25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Identification of research objectives and areas of investig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Sampling / questionnaire desig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Fieldwor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Data analysis and cleani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port compilat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Release of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4479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68580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The Basics of Project Managemen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243828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Laying down objectives and activit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Drawing network diagram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Estimating activity du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rol: analyze, re-plan, and updat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ources consider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Contingency pla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Sample Project Schedu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40384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Jan 26:  Briefing and orien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1:  Literature review; initial design of the stud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rch 13-19:  Finalizing research strategy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2:  Fieldwork and confronting practical problem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Phase 3:  Data analysis and report compil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imes New Roman"/>
              </a:rPr>
              <a:t>May 3:  Final touch-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91080" y="2209680"/>
            <a:ext cx="7085520" cy="1573200"/>
            <a:chOff x="991080" y="2209680"/>
            <a:chExt cx="7085520" cy="1573200"/>
          </a:xfrm>
        </p:grpSpPr>
        <p:grpSp>
          <p:nvGrpSpPr>
            <p:cNvPr id="196" name=""/>
            <p:cNvGrpSpPr/>
            <p:nvPr/>
          </p:nvGrpSpPr>
          <p:grpSpPr>
            <a:xfrm>
              <a:off x="991080" y="3120120"/>
              <a:ext cx="7085520" cy="662760"/>
              <a:chOff x="991080" y="3120120"/>
              <a:chExt cx="7085520" cy="662760"/>
            </a:xfrm>
          </p:grpSpPr>
          <p:sp>
            <p:nvSpPr>
              <p:cNvPr id="197" name=""/>
              <p:cNvSpPr/>
              <p:nvPr/>
            </p:nvSpPr>
            <p:spPr>
              <a:xfrm>
                <a:off x="1073520" y="3120120"/>
                <a:ext cx="7003080" cy="483840"/>
              </a:xfrm>
              <a:prstGeom prst="rightArrow">
                <a:avLst>
                  <a:gd name="adj1" fmla="val 36602"/>
                  <a:gd name="adj2" fmla="val 59504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cc99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795b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910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67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6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8016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3/2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3212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744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8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14612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2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3508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9/3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6680" y="347400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5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994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2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00600" y="3474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19/4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64080" y="3475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ecff"/>
                    </a:solidFill>
                    <a:latin typeface="Arial"/>
                    <a:ea typeface="Arial_Unicode_MS"/>
                  </a:rPr>
                  <a:t>26/5</a:t>
                </a:r>
                <a:endParaRPr b="0" lang="en-US" sz="1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1157040" y="2209680"/>
              <a:ext cx="2667600" cy="15192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25000" y="2513160"/>
              <a:ext cx="20844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400" y="2817000"/>
              <a:ext cx="1834200" cy="151560"/>
            </a:xfrm>
            <a:prstGeom prst="flowChartProcess">
              <a:avLst/>
            </a:prstGeom>
            <a:solidFill>
              <a:srgbClr val="cc99ff"/>
            </a:solidFill>
            <a:ln w="0">
              <a:noFill/>
            </a:ln>
            <a:effectLst>
              <a:outerShdw dist="17819" dir="2700000" blurRad="0" rotWithShape="0">
                <a:srgbClr val="795b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ccec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16765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imes New Roman"/>
              </a:rPr>
              <a:t>Background Reading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immerman, D.E. and Muraski, M.L. (1995). The Elements of Information Gathering. Arizona: Oryx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Babbie, E.R. (1990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. Survey Research Methods, 2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ed. California: Wadsworth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KU POP Site at 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en-GB" sz="28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/hkupop.hku.hk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Parts of a Research Proposa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terature review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(if applicable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ject schedul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Budget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Research team member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pproaching a Research Problem…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research problem? How wide? How deep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desired method of data collection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en must it be finish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How should the finding be presen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hat is the academic/intellectual value of the study? What further questions have been generated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fferent Methods of Data Collecti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Interviews: face-to-fac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Observation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Focus grou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Questionnaire survey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Electronic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Library resourc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fferent Parts of a Study Report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920" y="251424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ecutive summar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roduction/preamb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design or methodolog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finding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onclusions with or without recommenda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questionnaire (in appendix, if applicable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ther document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Research team members (in appendi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9810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25909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Features of this cour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All course material placed on-lin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Communication with lecturer and instructors any ti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On-line forum to promote open discussion among participan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Build-in course evaluation to facilitate future planning, as well as actual example of opinion survey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2819520"/>
            <a:ext cx="721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10-minute brea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oup Projects and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dividual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imelines for Group Projects (again)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1 July 2005, afterno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ivision of labour among group members fix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23 July 2005, by 2359 the lates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August 2005, by 2359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first assignments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1 September 2005 - </a:t>
            </a:r>
            <a:r>
              <a:rPr b="1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Submission of group project</a:t>
            </a:r>
            <a:r>
              <a:rPr b="1" lang="zh-TW" sz="2000" spc="-1" strike="noStrike">
                <a:solidFill>
                  <a:srgbClr val="ffff99"/>
                </a:solidFill>
                <a:latin typeface="Times New Roman"/>
              </a:rPr>
              <a:t>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3 – 9 September 2005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1)  Plan and conduct a study on Hong Kong people’s reaction to Hong Kong stag the 2008 Olympic Equestrian Event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public’s initial rea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o were the 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government’s rol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Do people support the government? How do you know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Are you going to make some policy recommendation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2)  Plan and conduct a study on Hong Kong people’s reaction to Donald Tsang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measure people’s support of the CE candidates? How many ways are there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was the public’s reaction before, during and after the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collect your data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How has the media influence public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is the importance of this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ics for Group Proj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"/>
              </a:rPr>
              <a:t>(3) Plan and conduct a study on Hong Kong people’s reaction to Ma Ying-jeou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Give a background of the ev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y should we be interested in studying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the Hong Kong public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was the reaction of Hong Kong’s opinion leaders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How would you collect data for your study? How would you distinguish between facts and opin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are the limitations of your study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What lessons does Hong Kong learn from this election?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152388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2590920"/>
            <a:ext cx="721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estions and Answer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jects and Assignment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2514600"/>
            <a:ext cx="75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References f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rther Studi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On-line Resour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Findings of the MRSHK pilot study of August 2002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orkshop teaching aid: </a:t>
            </a:r>
            <a:r>
              <a:rPr b="0" lang="zh-TW" sz="2000" spc="-1" strike="noStrike" u="sng">
                <a:solidFill>
                  <a:srgbClr val="ccecff"/>
                </a:solidFill>
                <a:uFillTx/>
                <a:latin typeface="Times New Roman"/>
              </a:rPr>
              <a:t>Proposed Code of Professional Ethics and Practices for Public Opinion Research in Hong Kong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hkupop.hku.hk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W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unl.edu/wapor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AAPOR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aapo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ESOMAR (World Association of Research Professionals)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esomar.or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NCPP website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www.ncpp.org </a:t>
            </a: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(National Council on Public Polls of USA)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4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ecff"/>
                </a:solidFill>
                <a:latin typeface="Times New Roman"/>
              </a:rPr>
              <a:t>Gallup polls at </a:t>
            </a:r>
            <a:r>
              <a:rPr b="0" i="1" lang="zh-TW" sz="2000" spc="-1" strike="noStrike">
                <a:solidFill>
                  <a:srgbClr val="ffff99"/>
                </a:solidFill>
                <a:latin typeface="Times New Roman"/>
              </a:rPr>
              <a:t>http://gallup.co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2362320"/>
            <a:ext cx="7391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Thank you very much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21337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4419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3429000"/>
            <a:ext cx="5029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8380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51460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Make use of the HKU POP Site –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</a:t>
            </a:r>
            <a:r>
              <a:rPr b="0" lang="zh-TW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/hkupop.hku.hk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POP Resources </a:t>
            </a:r>
            <a:r>
              <a:rPr b="1" lang="zh-TW" sz="2800" spc="-1" strike="noStrike">
                <a:solidFill>
                  <a:srgbClr val="ccffff"/>
                </a:solidFill>
                <a:latin typeface="Wingdings"/>
                <a:ea typeface="Wingdings"/>
              </a:rPr>
              <a:t>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 Public Opinion Lectures and Workshop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 algn="ctr">
              <a:lnSpc>
                <a:spcPct val="120000"/>
              </a:lnSpc>
              <a:spcBef>
                <a:spcPts val="700"/>
              </a:spcBef>
              <a:buClr>
                <a:srgbClr val="cc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[ today’s workshop, “july05”]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13372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 Timelin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during workshop – Formation of project group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1 July 2005, afternoon - Division of labour among group member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23 July 2005, 2359 the latest - On-line completion of workshop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August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, 2359 the latest - Submission of first assignments on-lin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11 August 2005 - First assignments marked and returne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99"/>
                </a:solidFill>
                <a:uFillTx/>
                <a:latin typeface="Times New Roman"/>
              </a:rPr>
              <a:t>1 September 2005</a:t>
            </a: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 - Submission of group project to CSD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ffff"/>
                </a:solidFill>
                <a:latin typeface="Times New Roman"/>
              </a:rPr>
              <a:t>3-9 September 2005 - On-line completion of programme evaluation questionn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Opening Remark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60020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ffff"/>
                </a:solidFill>
                <a:latin typeface="Times New Roman"/>
              </a:rPr>
              <a:t>A quick look at the assignmen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Topics for Group Project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1) Plan and conduct a study on Hong Kong people’s reaction to Hong Kong stag the 2008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Olympic Equestrian Events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2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Donald Tsang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the Chief Executive of the HKSA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(3) Plan and conduct a study on Hong Kong people’s reaction to </a:t>
            </a:r>
            <a:r>
              <a:rPr b="0" lang="zh-TW" sz="2400" spc="-1" strike="noStrike">
                <a:solidFill>
                  <a:srgbClr val="ffff99"/>
                </a:solidFill>
                <a:latin typeface="Times New Roman"/>
              </a:rPr>
              <a:t>Ma Ying-jeou</a:t>
            </a:r>
            <a:r>
              <a:rPr b="0" lang="zh-TW" sz="2400" spc="-1" strike="noStrike">
                <a:solidFill>
                  <a:srgbClr val="ccffff"/>
                </a:solidFill>
                <a:latin typeface="Times New Roman"/>
              </a:rPr>
              <a:t>’s being elected Chairman of Kuomintang in Taiwa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37160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 Case Study…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590920"/>
            <a:ext cx="7010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POP release of 12 July 2005 (Tuesday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Latest popularity figures of CE Donald Tsang and the Principal Official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新細明體"/>
              </a:rPr>
              <a:t>16  key opinion questions + a standard set of demographic question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209680"/>
            <a:ext cx="761976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400"/>
            </a:gs>
            <a:gs pos="50000">
              <a:srgbClr val="006600"/>
            </a:gs>
            <a:gs pos="100000">
              <a:srgbClr val="002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685800"/>
            <a:ext cx="7467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Questions on the Appraisal of Acting CE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( 4 - 6 July 2005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28600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Please use a scale of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0-100 to rate your extent of support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of Chief Executive Donald Tsang Yam-kuen, with 0 indicating absolutely not supportive, 100 indicating absolutely supportive and 50 indicating half-half.  How would you rate Chief Executive Donald Tsang Yam-kuen?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453960" indent="-4539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If a general election of the Chief Executive were to be held tomorrow, and you had the right to vote, </a:t>
            </a:r>
            <a:r>
              <a:rPr b="0" lang="zh-TW" sz="2400" spc="-1" strike="noStrike" u="sng">
                <a:solidFill>
                  <a:srgbClr val="ffff99"/>
                </a:solidFill>
                <a:uFillTx/>
                <a:latin typeface="Times New Roman"/>
              </a:rPr>
              <a:t>would you vote for Donald Tsang Yam-kuen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07-21T10:37:18Z</dcterms:modified>
  <cp:revision>632</cp:revision>
  <dc:subject/>
  <dc:title>無投影片標題</dc:title>
</cp:coreProperties>
</file>