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EF6E4C-806B-46F2-A769-F7EEC077F04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56762D-522A-491C-8179-288C652700A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is a new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is course may not be opened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herefore, this course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Every student is uniq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A96A58-F4DE-4036-ABAD-7BC9D047638B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7558CB-EF04-4DBA-AC13-A883E89A9BC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456C-FD4E-4EC7-B38B-C71AB722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24F-F43B-41E6-A43A-3CDD2081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78A-E89E-4AA6-A01C-881DC2FA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DF17-1900-48EC-90DC-E3A6D7DD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7B1-B61C-4ED4-AE1B-8F307DAB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CCA-F40F-4828-915D-FC09538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713A-E124-451C-8E54-85145873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211-3E28-480C-BB26-3D755AA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ED7-0851-4900-A0E5-B4691018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BA1-738D-46A0-94B7-7852D6EB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F1A-F394-4A69-8853-72DB1620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310-0ACB-4BAC-8F28-67B4AE9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2CB-E424-4FF4-8DDC-63C8191FE5B3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621/20050531_pr_chi.htm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RESARCH WORKSHOP</a:t>
            </a:r>
            <a:br>
              <a:rPr sz="3600"/>
            </a:br>
            <a:r>
              <a:rPr b="1" lang="zh-TW" sz="3600" spc="-1" strike="noStrike">
                <a:solidFill>
                  <a:srgbClr val="ffff00"/>
                </a:solidFill>
                <a:latin typeface="Times New Roman"/>
              </a:rPr>
              <a:t>社會調研工作坊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876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CHUNG Ting-yiu Robert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鍾庭耀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22/6/2005, 1830-210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1460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267080"/>
            <a:ext cx="754380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9144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Lee Shiu Socio-Economic Study Project 2005</a:t>
            </a: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李韶社會經濟考察計劃</a:t>
            </a:r>
            <a:r>
              <a:rPr b="0" lang="zh-TW" sz="2800" spc="-1" strike="noStrike">
                <a:solidFill>
                  <a:srgbClr val="ccecff"/>
                </a:solidFill>
                <a:latin typeface="MingLiU"/>
              </a:rPr>
              <a:t>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31 Ma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Press release in Chinese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47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Bulkmail via the POP Network, 13:5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66880" y="3429000"/>
            <a:ext cx="381024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CR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5181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7" name="2a_20050601_Apple%20Daily_56%25受訪者支持平反六四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8763120" cy="253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48769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New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2" name="2a_20050601_Oriental%20Daily%20News_支聯會評分跌破50分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181480" cy="2498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838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327672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2a_20050601_Ming%20Pao_56%25支持平反六四回歸新高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5638680" cy="546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6095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 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2a_20050601_HK%20Economic%20Times_支持平反六四創新高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867280" cy="409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5181480"/>
            <a:ext cx="4876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Hong Kong Daily News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（新報）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7" name="2a_20050601_HK%20Daily%20News_五成六人支持平反六四" descr=""/>
          <p:cNvPicPr/>
          <p:nvPr/>
        </p:nvPicPr>
        <p:blipFill>
          <a:blip r:embed="rId1"/>
          <a:stretch/>
        </p:blipFill>
        <p:spPr>
          <a:xfrm>
            <a:off x="1523880" y="1914480"/>
            <a:ext cx="6035760" cy="302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54864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    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601_Sing%20Pao_支持平反六四回歸新高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3043440" cy="262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CM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 June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601_SCMP_Rising%20sympathy%20for%20Tiananmen%20sturdent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428472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2514600"/>
            <a:ext cx="6324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514600"/>
            <a:ext cx="6705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e case of field observ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basics of social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2514600"/>
            <a:ext cx="7467480" cy="358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76212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2743200"/>
            <a:ext cx="71625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ing the preliminary findings of the MRSHK Project (19-25/8/2002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principle of “minimum disclosure” (For reference: Proposed Code of Professional Ethics and Practices for Public Opinion Research in Hong Kong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eld Observatio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oject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238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台灣總統大選研習團</a:t>
            </a:r>
            <a:r>
              <a:rPr b="0" lang="zh-TW" sz="2800" spc="-1" strike="noStrike">
                <a:solidFill>
                  <a:srgbClr val="ffff00"/>
                </a:solidFill>
                <a:latin typeface="MingLiU"/>
              </a:rPr>
              <a:t>2004</a:t>
            </a:r>
            <a:r>
              <a:rPr b="0" lang="zh-TW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香港大學學生會、香港大學學生研究隊主辦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透過到台灣觀選，讓同學感受大選氣氛，了解台灣政黨發展以及台灣學界、傳媒和民眾對大選的關注；從而引發同學對香港政黨發展，政制改革的探討。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004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7-20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2" marL="1044720" indent="-20340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29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同學 ＋ 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名單位代表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eld Observation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author has been to Taiwan to observe the elections there for many years, he has always kept an eye on the development of the public opinion survey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the first exit poll of the presidential election in Taiwan…”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problems observed…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media in Taiwan is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cademics in Taiwan also not neutr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 civil service also not neutral civil servic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there is a serious lack of independent middle force in Taiwan society, which is not good for democratic development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lvl="2" marL="95256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As a result, they cannot provide a credible middle force to society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257800"/>
            <a:ext cx="5257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724280"/>
            <a:ext cx="52578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4267080"/>
            <a:ext cx="502920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Column Article …..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7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lang="zh-TW" sz="3000" spc="-1" strike="noStrike">
                <a:solidFill>
                  <a:srgbClr val="ccecff"/>
                </a:solidFill>
                <a:latin typeface="Times New Roman"/>
              </a:rPr>
              <a:t>Inadequate Support Mechanisms in Taiwan’s Democratic System”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ecff"/>
                </a:solidFill>
                <a:latin typeface="Times New Roman"/>
              </a:rPr>
              <a:t>「台灣民主制度配套不足」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Chinese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577800" indent="-57780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The English version at POP Site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2514600"/>
            <a:ext cx="72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Basics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cial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Kinds of Social Research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net researc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-depth 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 leeshiu0506 ” 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f applicable, 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Basics of Project Managemen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Sample Project Sch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41911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rch 10:  Finalizing research strate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70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71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1905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hkupop.hku.hk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W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unl.edu/wapor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AAPOR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aapo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esomar.or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NCPP website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www.ncpp.org </a:t>
            </a: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(National Council on Public Polls of USA) 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ffffff"/>
                </a:solidFill>
                <a:latin typeface="Times New Roman"/>
              </a:rPr>
              <a:t>Gallup polls at </a:t>
            </a:r>
            <a:r>
              <a:rPr b="0" i="1" lang="zh-TW" sz="2500" spc="-1" strike="noStrike">
                <a:solidFill>
                  <a:srgbClr val="ffffff"/>
                </a:solidFill>
                <a:latin typeface="Times New Roman"/>
              </a:rPr>
              <a:t>http://gallup.co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ree Discussion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 Topics for Discuss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How would you conduct a study on Hong Kong people’s receptiveness to the proposed abolition of estate duty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initial reaction of the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initial reaction of the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different opinions from different secto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End of Worksho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ne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2743200"/>
            <a:ext cx="72388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31 Ma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Annual survey on June Fourt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1  key opinion questions +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Beijing students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Chinese Government did the right thing in the June 4 Incid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ared to 1989, do you think China's human right condition has become better or wors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65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human right condition in China will be better or even worse in three years' tim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286000"/>
            <a:ext cx="7924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the development of democracy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have a responsibility to instigate economic development in China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Hong Kong people should put more effort on instigating development in China's economy or democracy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ch do you think China needs more: economic or democratic development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June Fourth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21 - 24 Ma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743200"/>
            <a:ext cx="7086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support a reversion of the official stand on the June 4 Incident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 you think the Alliance should be disbanded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8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ting of the Hong Kong Alliance in Support of the Patriotic Democratic Movement in China before June 4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dia Coverag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6-22T06:43:57Z</dcterms:modified>
  <cp:revision>630</cp:revision>
  <dc:subject/>
  <dc:title>無投影片標題</dc:title>
</cp:coreProperties>
</file>