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642100" cy="9902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42000" cy="990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87820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62000" y="0"/>
            <a:ext cx="287820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44560" y="742680"/>
            <a:ext cx="4952880" cy="371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85960" y="4703400"/>
            <a:ext cx="4868640" cy="44578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08960"/>
            <a:ext cx="287820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62000" y="9408960"/>
            <a:ext cx="287820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628A699-6AB0-4784-BA90-090C7E61A57C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3762000" y="9408960"/>
            <a:ext cx="287820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253EE74-44DE-4019-AD5B-506C360E2EBF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-360" y="9408960"/>
            <a:ext cx="287820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-360" y="0"/>
            <a:ext cx="287820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3762000" y="0"/>
            <a:ext cx="287820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84456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885960" y="4703400"/>
            <a:ext cx="4868640" cy="446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 txBox="1"/>
          <p:nvPr/>
        </p:nvSpPr>
        <p:spPr>
          <a:xfrm>
            <a:off x="3762000" y="9408960"/>
            <a:ext cx="287820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E6C8C09-0DD9-4821-8DD9-389798576BF6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-360" y="9408960"/>
            <a:ext cx="287820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-360" y="0"/>
            <a:ext cx="287820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3762000" y="0"/>
            <a:ext cx="287820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84456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885960" y="4703400"/>
            <a:ext cx="4868640" cy="446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5570B-F5D5-4A83-A98B-B79C69040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192A3-8585-49DF-A715-AA884B0AC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87307-6902-4127-8BC4-335CD653C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A5DC5-0287-42B7-B68C-5CB09BF2F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4A8EB-4222-4F29-80AC-D93032A17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F00BE-0D34-4F4F-8A89-129B739C3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AB9A4-9904-44D8-B69F-43845105F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8B62B-1F3D-4236-8FC7-BBDEC0262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3A5CF-95C7-4F36-94F1-20D288B66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60216-769F-4566-BAA4-531C953E3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5C9FB-6824-41EA-B4D4-BEEE97CCB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ECD72-CED9-4416-9D60-2B974D5C3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D568A-9C2C-4300-85DC-6332700FE99D}" type="slidenum"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hkupop.hku.hk/chinese/resources/workshops/20050510/20050418_TP0504C_Chan%20To%20Lam_%202006.mp3" TargetMode="External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hkupop.hku.hk/chinese/resources/workshops/20050510/tp0504c_que.htm" TargetMode="External"/><Relationship Id="rId2" Type="http://schemas.openxmlformats.org/officeDocument/2006/relationships/hyperlink" Target="http://hkupop.hku.hk/chinese/resources/workshops/20050510/tp0504c_admin_2.html" TargetMode="External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hkupop.hku.hk/" TargetMode="External"/><Relationship Id="rId2" Type="http://schemas.openxmlformats.org/officeDocument/2006/relationships/hyperlink" Target="http://hkupop.hku.hk/" TargetMode="Externa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297144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99"/>
                </a:solidFill>
                <a:latin typeface="Times New Roman"/>
              </a:rPr>
              <a:t>Workshop on Project Management</a:t>
            </a:r>
            <a:br>
              <a:rPr sz="2800"/>
            </a:br>
            <a:r>
              <a:rPr b="1" i="1" lang="en-US" sz="2800" spc="-1" strike="noStrike">
                <a:solidFill>
                  <a:srgbClr val="ffff99"/>
                </a:solidFill>
                <a:latin typeface="Times New Roman"/>
              </a:rPr>
              <a:t>for Correctional Services Department Officers</a:t>
            </a:r>
            <a:br>
              <a:rPr sz="2800"/>
            </a:b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10 May 2005</a:t>
            </a:r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1295280"/>
            <a:ext cx="50292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99"/>
                </a:solidFill>
                <a:latin typeface="Times New Roman"/>
              </a:rPr>
              <a:t>The University of Hong Kong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99"/>
                </a:solidFill>
                <a:latin typeface="Times New Roman"/>
              </a:rPr>
              <a:t>Public Opinion Programme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99"/>
                </a:solidFill>
                <a:latin typeface="Times New Roman"/>
              </a:rPr>
              <a:t>香港大學民意研究計劃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3880" y="1143000"/>
          <a:ext cx="1536840" cy="160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143000"/>
                    <a:ext cx="153684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" name=""/>
          <p:cNvSpPr/>
          <p:nvPr/>
        </p:nvSpPr>
        <p:spPr>
          <a:xfrm>
            <a:off x="914400" y="4952880"/>
            <a:ext cx="7543800" cy="52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2000" spc="-1" strike="noStrike">
                <a:solidFill>
                  <a:srgbClr val="ffffcc"/>
                </a:solidFill>
                <a:latin typeface="Times New Roman"/>
              </a:rPr>
              <a:t>Dr Robert CHUNG Ting-yiu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1800" spc="-1" strike="noStrike">
                <a:solidFill>
                  <a:srgbClr val="ffffcc"/>
                </a:solidFill>
                <a:latin typeface="Times New Roman"/>
              </a:rPr>
              <a:t>(Director of Public Opinion Programme)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990720" y="2590920"/>
            <a:ext cx="7216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The Operation of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Opinion Research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5867280" y="3200400"/>
            <a:ext cx="1219320" cy="5335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91440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Operation of the Survey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85800" y="2514600"/>
            <a:ext cx="769608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99"/>
                </a:solidFill>
                <a:latin typeface="Times New Roman"/>
              </a:rPr>
              <a:t>Demonstration of the POP’s operation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ccffff"/>
                </a:solidFill>
                <a:latin typeface="Times New Roman"/>
              </a:rPr>
              <a:t>CATI and WEBCATI   (</a:t>
            </a:r>
            <a:r>
              <a:rPr b="0" lang="zh-TW" sz="2800" spc="-1" strike="noStrike" u="sng">
                <a:solidFill>
                  <a:srgbClr val="0000cc"/>
                </a:solidFill>
                <a:uFillTx/>
                <a:latin typeface="Times New Roman"/>
                <a:hlinkClick r:id="rId1"/>
              </a:rPr>
              <a:t>audio</a:t>
            </a:r>
            <a:r>
              <a:rPr b="0" lang="zh-TW" sz="2800" spc="-1" strike="noStrike">
                <a:solidFill>
                  <a:srgbClr val="cc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 u="sng">
                <a:solidFill>
                  <a:srgbClr val="ffffcc"/>
                </a:solidFill>
                <a:uFillTx/>
                <a:latin typeface="Times New Roman"/>
              </a:rPr>
              <a:t>WEBCATI input demonstration 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 u="sng">
                <a:solidFill>
                  <a:srgbClr val="ffffcc"/>
                </a:solidFill>
                <a:uFillTx/>
                <a:latin typeface="Times New Roman"/>
              </a:rPr>
              <a:t>Quality control (q/c) measures 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ccffff"/>
                </a:solidFill>
                <a:latin typeface="Times New Roman"/>
              </a:rPr>
              <a:t>Press release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62120" y="2057400"/>
            <a:ext cx="76197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791320" y="3200400"/>
            <a:ext cx="1143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6477120" y="4419720"/>
            <a:ext cx="1218960" cy="457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553080" y="3809880"/>
            <a:ext cx="1219320" cy="457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91440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Operation of the Survey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85800" y="2514600"/>
            <a:ext cx="769608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99"/>
                </a:solidFill>
                <a:latin typeface="Times New Roman"/>
              </a:rPr>
              <a:t>Demonstration of the POP’s operation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ccffff"/>
                </a:solidFill>
                <a:latin typeface="Times New Roman"/>
              </a:rPr>
              <a:t>CATI and WEBCATI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 u="sng">
                <a:solidFill>
                  <a:srgbClr val="ffffcc"/>
                </a:solidFill>
                <a:uFillTx/>
                <a:latin typeface="Times New Roman"/>
              </a:rPr>
              <a:t>WEBCATI input demonstration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0" lang="zh-TW" sz="2800" spc="-1" strike="noStrike" u="sng">
                <a:solidFill>
                  <a:srgbClr val="0000cc"/>
                </a:solidFill>
                <a:uFillTx/>
                <a:latin typeface="Times New Roman"/>
                <a:hlinkClick r:id="rId1"/>
              </a:rPr>
              <a:t>(demo)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 u="sng">
                <a:solidFill>
                  <a:srgbClr val="ffffcc"/>
                </a:solidFill>
                <a:uFillTx/>
                <a:latin typeface="Times New Roman"/>
              </a:rPr>
              <a:t>Quality control (q/c) measures 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zh-TW" sz="2800" spc="-1" strike="noStrike" u="sng">
                <a:solidFill>
                  <a:srgbClr val="0000cc"/>
                </a:solidFill>
                <a:uFillTx/>
                <a:latin typeface="Times New Roman"/>
                <a:hlinkClick r:id="rId2"/>
              </a:rPr>
              <a:t>(demo)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ccffff"/>
                </a:solidFill>
                <a:latin typeface="Times New Roman"/>
              </a:rPr>
              <a:t>Press releases (to be discussed later)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62120" y="2057400"/>
            <a:ext cx="76197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The Operation of Opinion Research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1676520"/>
            <a:ext cx="72388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Times New Roman"/>
              </a:rPr>
              <a:t>Different stages in conducting an “opinion poll”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Identification of research objectives and areas of investigation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Sampling design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Questionnaire design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Fieldwork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Data analysis and cleaning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Report compilation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Release of finding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85800" y="14479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85800" y="685800"/>
            <a:ext cx="7620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Times New Roman"/>
              </a:rPr>
              <a:t>The Basics of Project Management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371600" y="2438280"/>
            <a:ext cx="67816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spcBef>
                <a:spcPts val="700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Laying down objectives and activitie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spcBef>
                <a:spcPts val="700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Drawing network diagram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spcBef>
                <a:spcPts val="700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Estimating activity duration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spcBef>
                <a:spcPts val="700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Control: analyze, re-plan, and update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spcBef>
                <a:spcPts val="700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Resources consideration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spcBef>
                <a:spcPts val="700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Contingency plan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62120" y="1905120"/>
            <a:ext cx="76197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ccffff"/>
                </a:solidFill>
                <a:latin typeface="Times New Roman"/>
              </a:rPr>
              <a:t>A Sample Project Schedule</a:t>
            </a: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4038480"/>
            <a:ext cx="7391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Jan 26:  Briefing and orientation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Phase 1:  Literature review; initial design of the study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March 13-19:  Finalizing research strategy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Phase 2:  Fieldwork and confronting practical problems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Phase 3:  Data analysis and report compilation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May 3:  Final touch-ups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991080" y="2209680"/>
            <a:ext cx="7085520" cy="1573200"/>
            <a:chOff x="991080" y="2209680"/>
            <a:chExt cx="7085520" cy="1573200"/>
          </a:xfrm>
        </p:grpSpPr>
        <p:grpSp>
          <p:nvGrpSpPr>
            <p:cNvPr id="112" name=""/>
            <p:cNvGrpSpPr/>
            <p:nvPr/>
          </p:nvGrpSpPr>
          <p:grpSpPr>
            <a:xfrm>
              <a:off x="991080" y="3120120"/>
              <a:ext cx="7085520" cy="662760"/>
              <a:chOff x="991080" y="3120120"/>
              <a:chExt cx="7085520" cy="662760"/>
            </a:xfrm>
          </p:grpSpPr>
          <p:sp>
            <p:nvSpPr>
              <p:cNvPr id="113" name=""/>
              <p:cNvSpPr/>
              <p:nvPr/>
            </p:nvSpPr>
            <p:spPr>
              <a:xfrm>
                <a:off x="1073520" y="3120120"/>
                <a:ext cx="7003080" cy="483840"/>
              </a:xfrm>
              <a:prstGeom prst="rightArrow">
                <a:avLst>
                  <a:gd name="adj1" fmla="val 36602"/>
                  <a:gd name="adj2" fmla="val 59504"/>
                </a:avLst>
              </a:prstGeom>
              <a:gradFill rotWithShape="0">
                <a:gsLst>
                  <a:gs pos="0">
                    <a:srgbClr val="9999ff"/>
                  </a:gs>
                  <a:gs pos="100000">
                    <a:srgbClr val="cc99ff"/>
                  </a:gs>
                </a:gsLst>
                <a:lin ang="10800000"/>
              </a:gradFill>
              <a:ln w="0">
                <a:noFill/>
              </a:ln>
              <a:effectLst>
                <a:outerShdw dist="17819" dir="2700000" blurRad="0" rotWithShape="0">
                  <a:srgbClr val="795b98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991080" y="347400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ccecff"/>
                    </a:solidFill>
                    <a:latin typeface="Arial"/>
                    <a:ea typeface="Arial_Unicode_MS"/>
                  </a:rPr>
                  <a:t>2/2</a:t>
                </a:r>
                <a:endParaRPr b="0" lang="en-US" sz="1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567080" y="347400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ccecff"/>
                    </a:solidFill>
                    <a:latin typeface="Arial"/>
                    <a:ea typeface="Arial_Unicode_MS"/>
                  </a:rPr>
                  <a:t>16/2</a:t>
                </a:r>
                <a:endParaRPr b="0" lang="en-US" sz="1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180160" y="347400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ccecff"/>
                    </a:solidFill>
                    <a:latin typeface="Arial"/>
                    <a:ea typeface="Arial_Unicode_MS"/>
                  </a:rPr>
                  <a:t>23/2</a:t>
                </a:r>
                <a:endParaRPr b="0" lang="en-US" sz="1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2832120" y="347400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ccecff"/>
                    </a:solidFill>
                    <a:latin typeface="Arial"/>
                    <a:ea typeface="Arial_Unicode_MS"/>
                  </a:rPr>
                  <a:t>1/3</a:t>
                </a:r>
                <a:endParaRPr b="0" lang="en-US" sz="1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3457440" y="347400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ccecff"/>
                    </a:solidFill>
                    <a:latin typeface="Arial"/>
                    <a:ea typeface="Arial_Unicode_MS"/>
                  </a:rPr>
                  <a:t>8/3</a:t>
                </a:r>
                <a:endParaRPr b="0" lang="en-US" sz="1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4146120" y="347400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ccecff"/>
                    </a:solidFill>
                    <a:latin typeface="Arial"/>
                    <a:ea typeface="Arial_Unicode_MS"/>
                  </a:rPr>
                  <a:t>22/3</a:t>
                </a:r>
                <a:endParaRPr b="0" lang="en-US" sz="1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735080" y="347400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ccecff"/>
                    </a:solidFill>
                    <a:latin typeface="Arial"/>
                    <a:ea typeface="Arial_Unicode_MS"/>
                  </a:rPr>
                  <a:t>29/3</a:t>
                </a:r>
                <a:endParaRPr b="0" lang="en-US" sz="1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5386680" y="347400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ccecff"/>
                    </a:solidFill>
                    <a:latin typeface="Arial"/>
                    <a:ea typeface="Arial_Unicode_MS"/>
                  </a:rPr>
                  <a:t>5/4</a:t>
                </a:r>
                <a:endParaRPr b="0" lang="en-US" sz="1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5999400" y="347400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ccecff"/>
                    </a:solidFill>
                    <a:latin typeface="Arial"/>
                    <a:ea typeface="Arial_Unicode_MS"/>
                  </a:rPr>
                  <a:t>12/4</a:t>
                </a:r>
                <a:endParaRPr b="0" lang="en-US" sz="1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6600600" y="347400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ccecff"/>
                    </a:solidFill>
                    <a:latin typeface="Arial"/>
                    <a:ea typeface="Arial_Unicode_MS"/>
                  </a:rPr>
                  <a:t>19/4</a:t>
                </a:r>
                <a:endParaRPr b="0" lang="en-US" sz="1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7264080" y="347580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ccecff"/>
                    </a:solidFill>
                    <a:latin typeface="Arial"/>
                    <a:ea typeface="Arial_Unicode_MS"/>
                  </a:rPr>
                  <a:t>26/5</a:t>
                </a:r>
                <a:endParaRPr b="0" lang="en-US" sz="1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</p:grpSp>
        <p:sp>
          <p:nvSpPr>
            <p:cNvPr id="125" name=""/>
            <p:cNvSpPr/>
            <p:nvPr/>
          </p:nvSpPr>
          <p:spPr>
            <a:xfrm>
              <a:off x="1157040" y="2209680"/>
              <a:ext cx="2667600" cy="151920"/>
            </a:xfrm>
            <a:prstGeom prst="flowChartProcess">
              <a:avLst/>
            </a:prstGeom>
            <a:solidFill>
              <a:srgbClr val="cc99ff"/>
            </a:solidFill>
            <a:ln w="0">
              <a:noFill/>
            </a:ln>
            <a:effectLst>
              <a:outerShdw dist="17819" dir="2700000" blurRad="0" rotWithShape="0">
                <a:srgbClr val="795b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ccecff"/>
                  </a:solidFill>
                  <a:latin typeface="Arial"/>
                </a:rPr>
                <a:t>Phase 1</a:t>
              </a:r>
              <a:endParaRPr b="0" lang="en-US" sz="1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825000" y="2513160"/>
              <a:ext cx="2084400" cy="151560"/>
            </a:xfrm>
            <a:prstGeom prst="flowChartProcess">
              <a:avLst/>
            </a:prstGeom>
            <a:solidFill>
              <a:srgbClr val="cc99ff"/>
            </a:solidFill>
            <a:ln w="0">
              <a:noFill/>
            </a:ln>
            <a:effectLst>
              <a:outerShdw dist="17819" dir="2700000" blurRad="0" rotWithShape="0">
                <a:srgbClr val="795b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ccecff"/>
                  </a:solidFill>
                  <a:latin typeface="Arial"/>
                </a:rPr>
                <a:t>Phase 2</a:t>
              </a:r>
              <a:endParaRPr b="0" lang="en-US" sz="1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909400" y="2817000"/>
              <a:ext cx="1834200" cy="151560"/>
            </a:xfrm>
            <a:prstGeom prst="flowChartProcess">
              <a:avLst/>
            </a:prstGeom>
            <a:solidFill>
              <a:srgbClr val="cc99ff"/>
            </a:solidFill>
            <a:ln w="0">
              <a:noFill/>
            </a:ln>
            <a:effectLst>
              <a:outerShdw dist="17819" dir="2700000" blurRad="0" rotWithShape="0">
                <a:srgbClr val="795b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ccecff"/>
                  </a:solidFill>
                  <a:latin typeface="Arial"/>
                </a:rPr>
                <a:t>Phase 3</a:t>
              </a:r>
              <a:endParaRPr b="0" lang="en-US" sz="1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762120" y="1676520"/>
            <a:ext cx="76197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Times New Roman"/>
              </a:rPr>
              <a:t>Background Readings</a:t>
            </a: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2590560"/>
            <a:ext cx="73152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Zimmerman, D.E. and Muraski, M.L. (1995). The Elements of Information Gathering. Arizona: Oryx.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ffff"/>
                </a:solidFill>
                <a:latin typeface="Times New Roman"/>
              </a:rPr>
              <a:t>Babbie, E.R. (1990)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. Survey Research Methods, 2</a:t>
            </a:r>
            <a:r>
              <a:rPr b="1" lang="en-GB" sz="2800" spc="-1" strike="noStrike" baseline="30000">
                <a:solidFill>
                  <a:srgbClr val="ffffff"/>
                </a:solidFill>
                <a:latin typeface="Times New Roman"/>
              </a:rPr>
              <a:t>nd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ed. California: Wadsworth.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HKU POP Site at </a:t>
            </a:r>
            <a:r>
              <a:rPr b="0" lang="en-GB" sz="2800" spc="-1" strike="noStrike" u="sng">
                <a:solidFill>
                  <a:srgbClr val="ffffcc"/>
                </a:solidFill>
                <a:uFillTx/>
                <a:latin typeface="Times New Roman"/>
                <a:hlinkClick r:id="rId1"/>
              </a:rPr>
              <a:t>http:/</a:t>
            </a:r>
            <a:r>
              <a:rPr b="0" lang="en-GB" sz="2800" spc="-1" strike="noStrike" u="sng">
                <a:solidFill>
                  <a:srgbClr val="ffffcc"/>
                </a:solidFill>
                <a:uFillTx/>
                <a:latin typeface="Times New Roman"/>
                <a:hlinkClick r:id="rId2"/>
              </a:rPr>
              <a:t>/hkupop.hku.hk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62120" y="1981080"/>
            <a:ext cx="76197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Different Parts of a Research Proposal</a:t>
            </a: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447920" y="2133360"/>
            <a:ext cx="68580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Times New Roman"/>
              </a:rPr>
              <a:t>Introduction/preamble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Times New Roman"/>
              </a:rPr>
              <a:t>Literature review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Times New Roman"/>
              </a:rPr>
              <a:t>Research design or methodology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Times New Roman"/>
              </a:rPr>
              <a:t>Questionnaire (if applicable)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Times New Roman"/>
              </a:rPr>
              <a:t>Project schedule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Times New Roman"/>
              </a:rPr>
              <a:t>Budget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Times New Roman"/>
              </a:rPr>
              <a:t>Research team member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62120" y="1981080"/>
            <a:ext cx="76197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Approaching a Research Problem…</a:t>
            </a: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42640" y="2514240"/>
            <a:ext cx="71629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What is the research problem? How wide? How deep?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What is the desired method of data collection?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When must it be finished?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How should the finding be presented?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What is the academic/intellectual value of the study? What further questions have been generated?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62120" y="1981080"/>
            <a:ext cx="76197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Different Methods of Data Collection</a:t>
            </a: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47920" y="2437920"/>
            <a:ext cx="68580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Times New Roman"/>
              </a:rPr>
              <a:t>Interviews: face-to-face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Times New Roman"/>
              </a:rPr>
              <a:t>Observation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Times New Roman"/>
              </a:rPr>
              <a:t>Case studie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Times New Roman"/>
              </a:rPr>
              <a:t>Focus group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Times New Roman"/>
              </a:rPr>
              <a:t>Questionnaire survey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Times New Roman"/>
              </a:rPr>
              <a:t>Electronic resource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Times New Roman"/>
              </a:rPr>
              <a:t>Library resource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2120" y="1981080"/>
            <a:ext cx="76197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62120" y="838080"/>
            <a:ext cx="76197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ccffff"/>
                </a:solidFill>
                <a:latin typeface="Times New Roman"/>
              </a:rPr>
              <a:t>Outline of Workshop</a:t>
            </a:r>
            <a:endParaRPr b="0" lang="en-US" sz="4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838080" y="2514600"/>
            <a:ext cx="746784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92280" indent="-69228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Times New Roman"/>
              </a:rPr>
              <a:t>A case study of opinion research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692280" indent="-69228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Times New Roman"/>
              </a:rPr>
              <a:t>The operation and management research project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692280" indent="-69228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Times New Roman"/>
              </a:rPr>
              <a:t>Compilation of project report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692280" indent="-69228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Times New Roman"/>
              </a:rPr>
              <a:t>Managing the media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692280" indent="-69228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Times New Roman"/>
              </a:rPr>
              <a:t>Explanation and assignment of group project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692280" indent="-69228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Times New Roman"/>
              </a:rPr>
              <a:t>Discussion session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62120" y="2057400"/>
            <a:ext cx="76197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Different Parts of a Study Report</a:t>
            </a:r>
            <a:endParaRPr b="0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447920" y="2514240"/>
            <a:ext cx="6858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99"/>
                </a:solidFill>
                <a:uFillTx/>
                <a:latin typeface="Times New Roman"/>
              </a:rPr>
              <a:t>Executive summary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Introduction/preamble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Research design or methodology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Research finding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Conclusions with or without recommendation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The questionnaire (in appendix, if applicable)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Other documents (in appendix)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Research team members (in appendix)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62120" y="1981080"/>
            <a:ext cx="76197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1143000" y="2819520"/>
            <a:ext cx="721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Managing the Media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1600200" y="3276720"/>
            <a:ext cx="6324480" cy="2438280"/>
          </a:xfrm>
          <a:prstGeom prst="rect">
            <a:avLst/>
          </a:prstGeom>
          <a:solidFill>
            <a:srgbClr val="ffff99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Times New Roman"/>
              </a:rPr>
              <a:t>Media Reporting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914400" y="2438280"/>
            <a:ext cx="754380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ecff"/>
                </a:solidFill>
                <a:latin typeface="Times New Roman"/>
              </a:rPr>
              <a:t>The original POP press release of 26 April 2005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64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ccecff"/>
                </a:solidFill>
                <a:latin typeface="Times New Roman"/>
              </a:rPr>
              <a:t>Press release in Chinese, 13:32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64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ccecff"/>
                </a:solidFill>
                <a:latin typeface="Times New Roman"/>
              </a:rPr>
              <a:t>Press release in English, 13:32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649"/>
              </a:spcBef>
              <a:buClr>
                <a:srgbClr val="388ec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388ec8"/>
                </a:solidFill>
                <a:latin typeface="Times New Roman"/>
              </a:rPr>
              <a:t>Bulkfax to all media, 13:38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64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ccecff"/>
                </a:solidFill>
                <a:latin typeface="Times New Roman"/>
              </a:rPr>
              <a:t>Bulkmail via the POP Network, 13:45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5800" y="198108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2666880" y="3429000"/>
            <a:ext cx="3810240" cy="228600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33520" y="6858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Times New Roman"/>
              </a:rPr>
              <a:t>Media Reporting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85800" y="2438280"/>
            <a:ext cx="762012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ecff"/>
                </a:solidFill>
                <a:latin typeface="Times New Roman"/>
              </a:rPr>
              <a:t>Reports by the electronic media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 algn="ctr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 algn="ctr">
              <a:lnSpc>
                <a:spcPct val="150000"/>
              </a:lnSpc>
              <a:spcBef>
                <a:spcPts val="64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ccecff"/>
                </a:solidFill>
                <a:latin typeface="Times New Roman"/>
              </a:rPr>
              <a:t>RTHK news, 18:00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 algn="ctr">
              <a:lnSpc>
                <a:spcPct val="150000"/>
              </a:lnSpc>
              <a:spcBef>
                <a:spcPts val="64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ccecff"/>
                </a:solidFill>
                <a:latin typeface="Times New Roman"/>
              </a:rPr>
              <a:t>ATV news on-line 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 algn="ctr">
              <a:lnSpc>
                <a:spcPct val="150000"/>
              </a:lnSpc>
              <a:spcBef>
                <a:spcPts val="64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ccecff"/>
                </a:solidFill>
                <a:latin typeface="Times New Roman"/>
              </a:rPr>
              <a:t>TVB news, 23:35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85800" y="205740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Media Reporting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514600" y="518148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Apple Daily    27 April 2005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61" name="2a_20050427_Apple%20Daily_曾蔭權民望跌3.5分" descr=""/>
          <p:cNvPicPr/>
          <p:nvPr/>
        </p:nvPicPr>
        <p:blipFill>
          <a:blip r:embed="rId1"/>
          <a:stretch/>
        </p:blipFill>
        <p:spPr>
          <a:xfrm>
            <a:off x="1828800" y="2666880"/>
            <a:ext cx="5681520" cy="184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Media Reporting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715000" y="3429000"/>
            <a:ext cx="2286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ccecff"/>
                </a:solidFill>
                <a:latin typeface="Times New Roman"/>
              </a:rPr>
              <a:t>Wen Wei Po    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ccecff"/>
                </a:solidFill>
                <a:latin typeface="Times New Roman"/>
              </a:rPr>
              <a:t>27 April 2005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66" name="2a_20050427_Wen%20Wei%20Po_72%25市民望曾蔭權當特首" descr=""/>
          <p:cNvPicPr/>
          <p:nvPr/>
        </p:nvPicPr>
        <p:blipFill>
          <a:blip r:embed="rId1"/>
          <a:stretch/>
        </p:blipFill>
        <p:spPr>
          <a:xfrm>
            <a:off x="1066680" y="2133720"/>
            <a:ext cx="4419720" cy="4178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Media Reporting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548640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Hong Kong Standard     27 April 2005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71" name="2a_20050427_HK%20Standard_Tsang's%20ratings%20dip%20on%20%60snobbish'%20mien" descr=""/>
          <p:cNvPicPr/>
          <p:nvPr/>
        </p:nvPicPr>
        <p:blipFill>
          <a:blip r:embed="rId1"/>
          <a:stretch/>
        </p:blipFill>
        <p:spPr>
          <a:xfrm>
            <a:off x="762120" y="2133720"/>
            <a:ext cx="7554960" cy="314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33520" y="2286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Media Reporting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85800" y="14479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410080" y="3124080"/>
            <a:ext cx="26672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Hong Kong Economic Journal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27 April 2005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76" name="2a_20050427_HK%20Economic%20Journal_曾蔭權民望七天跌3.5分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3790800" cy="480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33520" y="2286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Media Reporting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4479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952880" y="2743200"/>
            <a:ext cx="28195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Hong Kong Economic Time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27 April 2005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81" name="2a_20050427_HK%20Economic%20Times_座駕切綫拖累%20民望跌3.5分" descr=""/>
          <p:cNvPicPr/>
          <p:nvPr/>
        </p:nvPicPr>
        <p:blipFill>
          <a:blip r:embed="rId1"/>
          <a:stretch/>
        </p:blipFill>
        <p:spPr>
          <a:xfrm>
            <a:off x="1600200" y="1752480"/>
            <a:ext cx="2743200" cy="4822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Media Reporting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447920" y="548640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Hong Kong Commercial Daily    27 April 2005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86" name="2a_20050427_HK%20Commercial%20Daily_港府民望3個月來最高" descr=""/>
          <p:cNvPicPr/>
          <p:nvPr/>
        </p:nvPicPr>
        <p:blipFill>
          <a:blip r:embed="rId1"/>
          <a:stretch/>
        </p:blipFill>
        <p:spPr>
          <a:xfrm>
            <a:off x="2209680" y="2286000"/>
            <a:ext cx="4724640" cy="296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838080"/>
            <a:ext cx="7620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Times New Roman"/>
              </a:rPr>
              <a:t>Opening Remarks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143000" y="2438280"/>
            <a:ext cx="708660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ccffff"/>
                </a:solidFill>
                <a:latin typeface="Times New Roman"/>
              </a:rPr>
              <a:t>Features of this course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ccffff"/>
                </a:solidFill>
                <a:latin typeface="Times New Roman"/>
              </a:rPr>
              <a:t>All course material placed on-line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ccffff"/>
                </a:solidFill>
                <a:latin typeface="Times New Roman"/>
              </a:rPr>
              <a:t>Communication with lecturer and instructors any time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ccffff"/>
                </a:solidFill>
                <a:latin typeface="Times New Roman"/>
              </a:rPr>
              <a:t>Open discussion among participants most welcome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ccffff"/>
                </a:solidFill>
                <a:latin typeface="Times New Roman"/>
              </a:rPr>
              <a:t>Your evaluation of all activities invited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2133720"/>
            <a:ext cx="76197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33520" y="2286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Media Reporting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5800" y="14479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572000" y="3048120"/>
            <a:ext cx="3276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Oriental Daily New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27 April 2005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91" name="2a_20050427_Oriental%20Daily%20News_曾蔭權支持度仍高企" descr=""/>
          <p:cNvPicPr/>
          <p:nvPr/>
        </p:nvPicPr>
        <p:blipFill>
          <a:blip r:embed="rId1"/>
          <a:stretch/>
        </p:blipFill>
        <p:spPr>
          <a:xfrm>
            <a:off x="1523880" y="1752480"/>
            <a:ext cx="2743200" cy="472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Media Reporting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3429000"/>
            <a:ext cx="2286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The Sun    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27 April 2005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96" name="2a_20050427_The%20Sun_曾蔭權民望回落" descr=""/>
          <p:cNvPicPr/>
          <p:nvPr/>
        </p:nvPicPr>
        <p:blipFill>
          <a:blip r:embed="rId1"/>
          <a:stretch/>
        </p:blipFill>
        <p:spPr>
          <a:xfrm>
            <a:off x="1600200" y="1905120"/>
            <a:ext cx="361152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Media Reporting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43600" y="3429000"/>
            <a:ext cx="2286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ccecff"/>
                </a:solidFill>
                <a:latin typeface="Times New Roman"/>
              </a:rPr>
              <a:t>Ta Kung Pao    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ccecff"/>
                </a:solidFill>
                <a:latin typeface="Times New Roman"/>
              </a:rPr>
              <a:t>27 April 2005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201" name="2a_20050427_Ta%20Kung%20Pao_曾蔭權民望有回落%20明出席答問大會民建聯關注民生" descr=""/>
          <p:cNvPicPr/>
          <p:nvPr/>
        </p:nvPicPr>
        <p:blipFill>
          <a:blip r:embed="rId1"/>
          <a:stretch/>
        </p:blipFill>
        <p:spPr>
          <a:xfrm>
            <a:off x="685800" y="2057400"/>
            <a:ext cx="5181480" cy="4362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Media Reporting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248520" y="3276720"/>
            <a:ext cx="2438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ccecff"/>
                </a:solidFill>
                <a:latin typeface="Times New Roman"/>
              </a:rPr>
              <a:t>Sing Pao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ccecff"/>
                </a:solidFill>
                <a:latin typeface="Times New Roman"/>
              </a:rPr>
              <a:t>27 April 2005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206" name="2a_20050427_Sing%20Pao_董建華再籲社會支持曾蔭權" descr=""/>
          <p:cNvPicPr/>
          <p:nvPr/>
        </p:nvPicPr>
        <p:blipFill>
          <a:blip r:embed="rId1"/>
          <a:stretch/>
        </p:blipFill>
        <p:spPr>
          <a:xfrm>
            <a:off x="685800" y="2057400"/>
            <a:ext cx="5500800" cy="448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33520" y="6858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Times New Roman"/>
              </a:rPr>
              <a:t>Media Reporting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600200" y="2514600"/>
            <a:ext cx="632448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Times New Roman"/>
              </a:rPr>
              <a:t>Characteristics of “media polls”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ffff"/>
                </a:solidFill>
                <a:latin typeface="Times New Roman"/>
              </a:rPr>
              <a:t>Agenda setting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ffff"/>
                </a:solidFill>
                <a:latin typeface="Times New Roman"/>
              </a:rPr>
              <a:t>Tend to focus on negative feelings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ffff"/>
                </a:solidFill>
                <a:latin typeface="Times New Roman"/>
              </a:rPr>
              <a:t>Sensationalism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ffff"/>
                </a:solidFill>
                <a:latin typeface="Times New Roman"/>
              </a:rPr>
              <a:t>Rich graphics to achieve visual impact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ffff"/>
                </a:solidFill>
                <a:latin typeface="Times New Roman"/>
              </a:rPr>
              <a:t>Extensive coverage for exclusive polls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85800" y="198108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914400" y="2514600"/>
            <a:ext cx="7467480" cy="3581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62120" y="762120"/>
            <a:ext cx="76197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Times New Roman"/>
              </a:rPr>
              <a:t>Media Reporting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990720" y="2743200"/>
            <a:ext cx="716256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 algn="just">
              <a:lnSpc>
                <a:spcPct val="120000"/>
              </a:lnSpc>
              <a:spcBef>
                <a:spcPts val="601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Introducing the preliminary findings of the MRSHK Project (19-25/8/2002)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just">
              <a:lnSpc>
                <a:spcPct val="12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just">
              <a:lnSpc>
                <a:spcPct val="120000"/>
              </a:lnSpc>
              <a:spcBef>
                <a:spcPts val="601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The principle of “minimum disclosure” (For reference: Proposed Code of Professional Ethics and Practices for Public Opinion Research in Hong Kong)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21337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990720" y="2590920"/>
            <a:ext cx="7216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Group Projects and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Individual Assignments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imelines for Group Projects</a:t>
            </a:r>
            <a:endParaRPr b="0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ecff"/>
                </a:solidFill>
                <a:latin typeface="Times New Roman"/>
              </a:rPr>
              <a:t>10 May 2005, afternoon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ecff"/>
                </a:solidFill>
                <a:latin typeface="Times New Roman"/>
              </a:rPr>
              <a:t>Division of labour among group members fixed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ecff"/>
                </a:solidFill>
                <a:latin typeface="Times New Roman"/>
              </a:rPr>
              <a:t>12 May 2005, by 2359 the latest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ecff"/>
                </a:solidFill>
                <a:latin typeface="Times New Roman"/>
              </a:rPr>
              <a:t>On-line completion of workshop evaluation questionnaire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ffff99"/>
                </a:solidFill>
                <a:latin typeface="Times New Roman"/>
              </a:rPr>
              <a:t>20 May 2005, by 2359 - </a:t>
            </a:r>
            <a:r>
              <a:rPr b="1" lang="zh-TW" sz="2000" spc="-1" strike="noStrike" u="sng">
                <a:solidFill>
                  <a:srgbClr val="ffff99"/>
                </a:solidFill>
                <a:uFillTx/>
                <a:latin typeface="Times New Roman"/>
              </a:rPr>
              <a:t>Submission of first assignments</a:t>
            </a:r>
            <a:r>
              <a:rPr b="1" lang="zh-TW" sz="2000" spc="-1" strike="noStrike">
                <a:solidFill>
                  <a:srgbClr val="ffff99"/>
                </a:solidFill>
                <a:latin typeface="Times New Roman"/>
              </a:rPr>
              <a:t> on-line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ecff"/>
                </a:solidFill>
                <a:latin typeface="Times New Roman"/>
              </a:rPr>
              <a:t>30 May 2005 - First assignments marked and returned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ffff99"/>
                </a:solidFill>
                <a:latin typeface="Times New Roman"/>
              </a:rPr>
              <a:t>6 June 2005 - </a:t>
            </a:r>
            <a:r>
              <a:rPr b="1" lang="zh-TW" sz="2000" spc="-1" strike="noStrike" u="sng">
                <a:solidFill>
                  <a:srgbClr val="ffff99"/>
                </a:solidFill>
                <a:uFillTx/>
                <a:latin typeface="Times New Roman"/>
              </a:rPr>
              <a:t>Submission of group project</a:t>
            </a:r>
            <a:r>
              <a:rPr b="1" lang="zh-TW" sz="2000" spc="-1" strike="noStrike">
                <a:solidFill>
                  <a:srgbClr val="ffff99"/>
                </a:solidFill>
                <a:latin typeface="Times New Roman"/>
              </a:rPr>
              <a:t> to CSD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000" spc="-1" strike="noStrike">
                <a:solidFill>
                  <a:srgbClr val="ccecff"/>
                </a:solidFill>
                <a:latin typeface="Times New Roman"/>
              </a:rPr>
              <a:t>	</a:t>
            </a:r>
            <a:endParaRPr b="0" lang="en-US" sz="1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ecff"/>
                </a:solidFill>
                <a:latin typeface="Times New Roman"/>
              </a:rPr>
              <a:t>8-14 June 2005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ecff"/>
                </a:solidFill>
                <a:latin typeface="Times New Roman"/>
              </a:rPr>
              <a:t>On-line completion of programme evaluation questionnaire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838080" y="152388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opics for Group Projects</a:t>
            </a:r>
            <a:endParaRPr b="0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914400" y="16765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"/>
              </a:rPr>
              <a:t>(1)  Plan and conduct a study on Hong Kong people’s support of the government in the last three months.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ccec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Times New Roman"/>
              </a:rPr>
              <a:t>How would you measure the government’s popularity? How many ways are there?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Times New Roman"/>
              </a:rPr>
              <a:t>Do you need to, or have time for, a primary study?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Times New Roman"/>
              </a:rPr>
              <a:t>What are the secondary sources which would be relevant to your study?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Times New Roman"/>
              </a:rPr>
              <a:t>How would you distinguish between reliable and unreliable information?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Times New Roman"/>
              </a:rPr>
              <a:t>How would you distinguish between facts and opinion?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Times New Roman"/>
              </a:rPr>
              <a:t>What is the importance of this study?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Times New Roman"/>
              </a:rPr>
              <a:t>What are the limitations of your study?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ccecff"/>
                </a:solidFill>
                <a:latin typeface="Times New Roman"/>
              </a:rPr>
              <a:t>Are you going to make some policy recommendations?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opics for Group Projects</a:t>
            </a:r>
            <a:endParaRPr b="0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914400" y="16765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00"/>
                </a:solidFill>
                <a:latin typeface="Times New Roman"/>
                <a:ea typeface=""/>
              </a:rPr>
              <a:t>(2)  Plan and conduct a study on Hong Kong people’s reaction to the latest toll increase at the Eastern Harbour Tunnel.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ecff"/>
                </a:solidFill>
                <a:latin typeface="Times New Roman"/>
              </a:rPr>
              <a:t>Give a background of the latest tunnel toll increase.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ecff"/>
                </a:solidFill>
                <a:latin typeface="Times New Roman"/>
              </a:rPr>
              <a:t>What was the public’s initial reaction?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ecff"/>
                </a:solidFill>
                <a:latin typeface="Times New Roman"/>
              </a:rPr>
              <a:t>What was the government’s initial reaction?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ecff"/>
                </a:solidFill>
                <a:latin typeface="Times New Roman"/>
              </a:rPr>
              <a:t>Do people support the government? How do you know?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ecff"/>
                </a:solidFill>
                <a:latin typeface="Times New Roman"/>
              </a:rPr>
              <a:t>How would you collect data for your study?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ecff"/>
                </a:solidFill>
                <a:latin typeface="Times New Roman"/>
              </a:rPr>
              <a:t>How would you distinguish between facts and opinion?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ecff"/>
                </a:solidFill>
                <a:latin typeface="Times New Roman"/>
              </a:rPr>
              <a:t>What is the importance of this study?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ecff"/>
                </a:solidFill>
                <a:latin typeface="Times New Roman"/>
              </a:rPr>
              <a:t>What are the limitations of your study?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1" lang="zh-TW" sz="2000" spc="-1" strike="noStrike">
                <a:solidFill>
                  <a:srgbClr val="ccecff"/>
                </a:solidFill>
                <a:latin typeface="Times New Roman"/>
              </a:rPr>
              <a:t>Are you going to make some policy recommendations?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2133720" y="3429000"/>
            <a:ext cx="5029200" cy="609480"/>
          </a:xfrm>
          <a:prstGeom prst="rect">
            <a:avLst/>
          </a:prstGeom>
          <a:solidFill>
            <a:srgbClr val="ffff99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5800" y="838080"/>
            <a:ext cx="7620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Times New Roman"/>
              </a:rPr>
              <a:t>Opening Remarks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143000" y="2514600"/>
            <a:ext cx="68580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 algn="ctr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ccffff"/>
                </a:solidFill>
                <a:latin typeface="Times New Roman"/>
              </a:rPr>
              <a:t>Make use of the HKU POP Site –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zh-TW" sz="3600" spc="-1" strike="noStrike">
                <a:solidFill>
                  <a:srgbClr val="ccffff"/>
                </a:solidFill>
                <a:latin typeface="Times New Roman"/>
              </a:rPr>
              <a:t>http://hkupop.hku.hk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POP Resources </a:t>
            </a:r>
            <a:r>
              <a:rPr b="1" lang="zh-TW" sz="2800" spc="-1" strike="noStrike">
                <a:solidFill>
                  <a:srgbClr val="ccffff"/>
                </a:solidFill>
                <a:latin typeface="Wingdings"/>
                <a:ea typeface="Wingdings"/>
              </a:rPr>
              <a:t></a:t>
            </a: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 Public Opinion Lectures and Workshop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[ today’s workshop, “ csd0505 ” ]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62120" y="2133720"/>
            <a:ext cx="76197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opics for Group Projects</a:t>
            </a:r>
            <a:endParaRPr b="0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14400" y="16765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"/>
              </a:rPr>
              <a:t>(3)  Plan a comprehensive study to gauge Hong Kong people’s view on building a super prison.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ccecff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Times New Roman"/>
              </a:rPr>
              <a:t>How many ways are there to measure people’s view?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Times New Roman"/>
              </a:rPr>
              <a:t>What are the key issues involved in building a super prison, with reference to public discussions in the past?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Times New Roman"/>
              </a:rPr>
              <a:t>How many modules are there in your study? 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Times New Roman"/>
              </a:rPr>
              <a:t>What questions would you use in a questionnaire survey?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Times New Roman"/>
              </a:rPr>
              <a:t>How do you know that your sample is representative?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Times New Roman"/>
              </a:rPr>
              <a:t>How would you distinguish between reliable and unreliable information?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Times New Roman"/>
              </a:rPr>
              <a:t>How often would you conduct your measurement?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Times New Roman"/>
              </a:rPr>
              <a:t>What would be the importance of this study?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Times New Roman"/>
              </a:rPr>
              <a:t>What would be the limitations of your study?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opics for Group Projects</a:t>
            </a:r>
            <a:endParaRPr b="0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914400" y="16765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00"/>
                </a:solidFill>
                <a:latin typeface="Times New Roman"/>
                <a:ea typeface=""/>
              </a:rPr>
              <a:t>(4)  Plan a comprehensive study to gauge Hong Kong people’s view on cross-strait relations.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ccec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ecff"/>
                </a:solidFill>
                <a:latin typeface="Times New Roman"/>
              </a:rPr>
              <a:t>Give a background of the latest events, including the recent visits of Lien Chan and James Soong Chu-yu to the mainland.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ecff"/>
                </a:solidFill>
                <a:latin typeface="Times New Roman"/>
              </a:rPr>
              <a:t>What would be the importance of conducting this study?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ecff"/>
                </a:solidFill>
                <a:latin typeface="Times New Roman"/>
              </a:rPr>
              <a:t>What would be the implication of your findings on the administration of our local government?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ecff"/>
                </a:solidFill>
                <a:latin typeface="Times New Roman"/>
              </a:rPr>
              <a:t>How many modules are there in your study? 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ecff"/>
                </a:solidFill>
                <a:latin typeface="Times New Roman"/>
              </a:rPr>
              <a:t>What questions would you use in a questionnaire survey?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ecff"/>
                </a:solidFill>
                <a:latin typeface="Times New Roman"/>
              </a:rPr>
              <a:t>How do you know that your sample is representative?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ecff"/>
                </a:solidFill>
                <a:latin typeface="Times New Roman"/>
              </a:rPr>
              <a:t>How would you distinguish between reliable and unreliable information?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ecff"/>
                </a:solidFill>
                <a:latin typeface="Times New Roman"/>
              </a:rPr>
              <a:t>What would be the limitations of your study?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990720" y="2590920"/>
            <a:ext cx="7216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Questions and Answers for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Projects and Assignments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914400" y="2514600"/>
            <a:ext cx="7532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Some References for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Further Studies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On-line Resources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90720" y="1905120"/>
            <a:ext cx="708660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ccecff"/>
                </a:solidFill>
                <a:latin typeface="Times New Roman"/>
              </a:rPr>
              <a:t>HKU POP Site at </a:t>
            </a:r>
            <a:r>
              <a:rPr b="0" i="1" lang="zh-TW" sz="2500" spc="-1" strike="noStrike">
                <a:solidFill>
                  <a:srgbClr val="ffff99"/>
                </a:solidFill>
                <a:latin typeface="Times New Roman"/>
              </a:rPr>
              <a:t>http://hkupop.hku.hk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ccecff"/>
                </a:solidFill>
                <a:latin typeface="Times New Roman"/>
              </a:rPr>
              <a:t>WAPOR website at </a:t>
            </a:r>
            <a:r>
              <a:rPr b="0" i="1" lang="zh-TW" sz="2500" spc="-1" strike="noStrike">
                <a:solidFill>
                  <a:srgbClr val="ffff99"/>
                </a:solidFill>
                <a:latin typeface="Times New Roman"/>
              </a:rPr>
              <a:t>http://www.unl.edu/wapor</a:t>
            </a:r>
            <a:r>
              <a:rPr b="0" lang="zh-TW" sz="2500" spc="-1" strike="noStrike">
                <a:solidFill>
                  <a:srgbClr val="ccecff"/>
                </a:solidFill>
                <a:latin typeface="Times New Roman"/>
              </a:rPr>
              <a:t> 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ccecff"/>
                </a:solidFill>
                <a:latin typeface="Times New Roman"/>
              </a:rPr>
              <a:t>AAPOR website at </a:t>
            </a:r>
            <a:r>
              <a:rPr b="0" i="1" lang="zh-TW" sz="2500" spc="-1" strike="noStrike">
                <a:solidFill>
                  <a:srgbClr val="ffff99"/>
                </a:solidFill>
                <a:latin typeface="Times New Roman"/>
              </a:rPr>
              <a:t>http://www.aapor.org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ccecff"/>
                </a:solidFill>
                <a:latin typeface="Times New Roman"/>
              </a:rPr>
              <a:t>ESOMAR (World Association of Research Professionals) website at </a:t>
            </a:r>
            <a:r>
              <a:rPr b="0" i="1" lang="zh-TW" sz="2500" spc="-1" strike="noStrike">
                <a:solidFill>
                  <a:srgbClr val="ffff99"/>
                </a:solidFill>
                <a:latin typeface="Times New Roman"/>
              </a:rPr>
              <a:t>http://www.esomar.org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ccecff"/>
                </a:solidFill>
                <a:latin typeface="Times New Roman"/>
              </a:rPr>
              <a:t>NCPP website at </a:t>
            </a:r>
            <a:r>
              <a:rPr b="0" i="1" lang="zh-TW" sz="2500" spc="-1" strike="noStrike">
                <a:solidFill>
                  <a:srgbClr val="ffff99"/>
                </a:solidFill>
                <a:latin typeface="Times New Roman"/>
              </a:rPr>
              <a:t>http://www.ncpp.org </a:t>
            </a:r>
            <a:r>
              <a:rPr b="0" lang="zh-TW" sz="2500" spc="-1" strike="noStrike">
                <a:solidFill>
                  <a:srgbClr val="ccecff"/>
                </a:solidFill>
                <a:latin typeface="Times New Roman"/>
              </a:rPr>
              <a:t>(National Council on Public Polls of USA) 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ccecff"/>
                </a:solidFill>
                <a:latin typeface="Times New Roman"/>
              </a:rPr>
              <a:t>Gallup polls at </a:t>
            </a:r>
            <a:r>
              <a:rPr b="0" i="1" lang="zh-TW" sz="2500" spc="-1" strike="noStrike">
                <a:solidFill>
                  <a:srgbClr val="ffff99"/>
                </a:solidFill>
                <a:latin typeface="Times New Roman"/>
              </a:rPr>
              <a:t>http://gallup.com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838080" y="2362320"/>
            <a:ext cx="739152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Times New Roman"/>
              </a:rPr>
              <a:t>Thank you very much!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85800" y="21337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62120" y="4419720"/>
            <a:ext cx="76197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33520" y="8380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One Case Study…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990720" y="2743200"/>
            <a:ext cx="723888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Times New Roman"/>
              </a:rPr>
              <a:t>POP release of 26 April 2005 (Tuesday)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853920" indent="-285480">
              <a:lnSpc>
                <a:spcPct val="150000"/>
              </a:lnSpc>
              <a:spcBef>
                <a:spcPts val="601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  <a:ea typeface="新細明體"/>
              </a:rPr>
              <a:t>Latest popularity figures of Acting CE and the HKSAR Government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853920" indent="-285480">
              <a:lnSpc>
                <a:spcPct val="150000"/>
              </a:lnSpc>
              <a:spcBef>
                <a:spcPts val="601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  <a:ea typeface="新細明體"/>
              </a:rPr>
              <a:t>8  key opinion questions + demographic question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62120" y="2209680"/>
            <a:ext cx="76197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838080" y="685800"/>
            <a:ext cx="7467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Questions on the Appraisal of Acting CE</a:t>
            </a: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99"/>
                </a:solidFill>
                <a:latin typeface="Times New Roman"/>
              </a:rPr>
              <a:t>( 18 – 21 April 2005 )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62120" y="2286000"/>
            <a:ext cx="76197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spcBef>
                <a:spcPts val="11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cc"/>
                </a:solidFill>
                <a:latin typeface="Times New Roman"/>
              </a:rPr>
              <a:t>Please use a scale of </a:t>
            </a:r>
            <a:r>
              <a:rPr b="0" lang="zh-TW" sz="2400" spc="-1" strike="noStrike" u="sng">
                <a:solidFill>
                  <a:srgbClr val="ffff99"/>
                </a:solidFill>
                <a:uFillTx/>
                <a:latin typeface="Times New Roman"/>
              </a:rPr>
              <a:t>0-100 to rate your extent of support</a:t>
            </a:r>
            <a:r>
              <a:rPr b="0" lang="zh-TW" sz="2400" spc="-1" strike="noStrike">
                <a:solidFill>
                  <a:srgbClr val="ffffcc"/>
                </a:solidFill>
                <a:latin typeface="Times New Roman"/>
              </a:rPr>
              <a:t> of the Acting Chief Executive Donald Tsang Yam-kuen, with 0 indicating absolutely not supportive, 100 indicating absolutely supportive and 50 indicating half-half.  How would you rate the Acting Chief Executive Donald Tsang Yam-kuen?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spcBef>
                <a:spcPts val="11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cc"/>
                </a:solidFill>
                <a:latin typeface="Times New Roman"/>
              </a:rPr>
              <a:t>If a general election of the Chief Executive were to be held tomorrow, and you had the right to vote, </a:t>
            </a:r>
            <a:r>
              <a:rPr b="0" lang="zh-TW" sz="2400" spc="-1" strike="noStrike" u="sng">
                <a:solidFill>
                  <a:srgbClr val="ffff99"/>
                </a:solidFill>
                <a:uFillTx/>
                <a:latin typeface="Times New Roman"/>
              </a:rPr>
              <a:t>would you vote for Donald Tsang Yam-kuen</a:t>
            </a:r>
            <a:r>
              <a:rPr b="0" lang="zh-TW" sz="2400" spc="-1" strike="noStrike">
                <a:solidFill>
                  <a:srgbClr val="ffffcc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838080" y="19051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33520" y="762120"/>
            <a:ext cx="807696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Questions on the HKSAR Government 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99"/>
                </a:solidFill>
                <a:latin typeface="Times New Roman"/>
              </a:rPr>
              <a:t>( 18 – 21 April 2005 )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62120" y="2438280"/>
            <a:ext cx="769608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spcBef>
                <a:spcPts val="13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Times New Roman"/>
              </a:rPr>
              <a:t>Are you satisfied with the overall performance of the HKSAR Government? 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spcBef>
                <a:spcPts val="13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Times New Roman"/>
              </a:rPr>
              <a:t>Are you satisfied with the HKSAR Government’s performance on the maintenance of </a:t>
            </a:r>
            <a:r>
              <a:rPr b="0" lang="en-US" sz="2600" spc="-1" strike="noStrike" u="sng">
                <a:solidFill>
                  <a:srgbClr val="ffff99"/>
                </a:solidFill>
                <a:uFillTx/>
                <a:latin typeface="Times New Roman"/>
              </a:rPr>
              <a:t>economic prosperity</a:t>
            </a:r>
            <a:r>
              <a:rPr b="0" lang="en-US" sz="2600" spc="-1" strike="noStrike">
                <a:solidFill>
                  <a:srgbClr val="ffffcc"/>
                </a:solidFill>
                <a:latin typeface="Times New Roman"/>
              </a:rPr>
              <a:t>? 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spcBef>
                <a:spcPts val="13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Times New Roman"/>
              </a:rPr>
              <a:t>Are you satisfied with the HKSAR Government’s performance on the improvement of </a:t>
            </a:r>
            <a:r>
              <a:rPr b="0" lang="en-US" sz="2600" spc="-1" strike="noStrike" u="sng">
                <a:solidFill>
                  <a:srgbClr val="ffff99"/>
                </a:solidFill>
                <a:uFillTx/>
                <a:latin typeface="Times New Roman"/>
              </a:rPr>
              <a:t>people’s livelihood</a:t>
            </a:r>
            <a:r>
              <a:rPr b="0" lang="en-US" sz="2600" spc="-1" strike="noStrike">
                <a:solidFill>
                  <a:srgbClr val="ffffcc"/>
                </a:solidFill>
                <a:latin typeface="Times New Roman"/>
              </a:rPr>
              <a:t>? 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62120" y="1981080"/>
            <a:ext cx="76197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33520" y="762120"/>
            <a:ext cx="807696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Questions on the HKSAR Government 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99"/>
                </a:solidFill>
                <a:latin typeface="Times New Roman"/>
              </a:rPr>
              <a:t>( 18 – 21 April 2005 )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066680" y="2514600"/>
            <a:ext cx="73152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spcBef>
                <a:spcPts val="11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re you satisfied with the HKSAR Government’s performance on the protection of </a:t>
            </a:r>
            <a:r>
              <a:rPr b="0" lang="en-US" sz="2400" spc="-1" strike="noStrike" u="sng">
                <a:solidFill>
                  <a:srgbClr val="ffff99"/>
                </a:solidFill>
                <a:uFillTx/>
                <a:latin typeface="Times New Roman"/>
              </a:rPr>
              <a:t>human rights and freedom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?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spcBef>
                <a:spcPts val="11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re you satisfied with the HKSAR Government’s performance on the pace of </a:t>
            </a:r>
            <a:r>
              <a:rPr b="0" lang="en-US" sz="2400" spc="-1" strike="noStrike" u="sng">
                <a:solidFill>
                  <a:srgbClr val="ffff99"/>
                </a:solidFill>
                <a:uFillTx/>
                <a:latin typeface="Times New Roman"/>
              </a:rPr>
              <a:t>democratic development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?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spcBef>
                <a:spcPts val="11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re you satisfied with the overall performance of the HKSAR Government’s handling of its </a:t>
            </a:r>
            <a:r>
              <a:rPr b="0" lang="en-US" sz="2400" spc="-1" strike="noStrike" u="sng">
                <a:solidFill>
                  <a:srgbClr val="ffff99"/>
                </a:solidFill>
                <a:uFillTx/>
                <a:latin typeface="Times New Roman"/>
              </a:rPr>
              <a:t>relation with the Central Government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120" y="1981080"/>
            <a:ext cx="76197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9480" y="99072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Standard Demographic Questions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143000" y="2666880"/>
            <a:ext cx="7010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853920" indent="-285480">
              <a:lnSpc>
                <a:spcPct val="100000"/>
              </a:lnSpc>
              <a:spcBef>
                <a:spcPts val="11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  <a:ea typeface="新細明體"/>
              </a:rPr>
              <a:t>Registered voter? Any voting experience?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853920" indent="-285480">
              <a:lnSpc>
                <a:spcPct val="100000"/>
              </a:lnSpc>
              <a:spcBef>
                <a:spcPts val="11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  <a:ea typeface="新細明體"/>
              </a:rPr>
              <a:t>Gender, age, education attainment, occupation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853920" indent="-285480">
              <a:lnSpc>
                <a:spcPct val="100000"/>
              </a:lnSpc>
              <a:spcBef>
                <a:spcPts val="11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  <a:ea typeface="新細明體"/>
              </a:rPr>
              <a:t>Housing type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853920" indent="-285480">
              <a:lnSpc>
                <a:spcPct val="100000"/>
              </a:lnSpc>
              <a:spcBef>
                <a:spcPts val="11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  <a:ea typeface="Arial"/>
              </a:rPr>
              <a:t>Class status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  <a:ea typeface="新細明體"/>
              </a:rPr>
              <a:t>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853920" indent="-285480">
              <a:lnSpc>
                <a:spcPct val="100000"/>
              </a:lnSpc>
              <a:spcBef>
                <a:spcPts val="11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  <a:ea typeface="新細明體"/>
              </a:rPr>
              <a:t>Place of birth, years of residence in HK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62120" y="2057400"/>
            <a:ext cx="76197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4T10:00:10Z</dcterms:created>
  <dc:creator>lee</dc:creator>
  <dc:description/>
  <dc:language>en-US</dc:language>
  <cp:lastModifiedBy>HKUPOP</cp:lastModifiedBy>
  <cp:lastPrinted>2001-04-04T10:00:24Z</cp:lastPrinted>
  <dcterms:modified xsi:type="dcterms:W3CDTF">2005-05-10T09:20:45Z</dcterms:modified>
  <cp:revision>604</cp:revision>
  <dc:subject/>
  <dc:title>無投影片標題</dc:title>
</cp:coreProperties>
</file>