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4E8-F20E-4F77-9EA5-50688B02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39C-B71C-48D5-8AF8-A4373D33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964-7B54-41D3-BA55-FDA0483A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1B5-2AF5-43F1-8A0A-E5789976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EC6-AE11-4C08-995A-0BEC7A88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B78-A803-41BE-8FFF-B038E39D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269-5D9A-49C7-A323-137BCC8E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4A0-B7EC-4277-9BB8-22A9331A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BEC-EDDE-4760-A582-C8A523E4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D48-9609-42FC-956D-80498EB0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467-610B-4314-89B2-43C3055E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40C-AF2D-4233-940C-BB5D2BDD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6736-6A87-4F6D-856D-D03155043FD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30/tp0504c_que.htm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hyperlink" Target="http://hkupop.hku.hk/chinese/resources/workshops/20050430/bulkmail.htm" TargetMode="External"/><Relationship Id="rId4" Type="http://schemas.openxmlformats.org/officeDocument/2006/relationships/hyperlink" Target="http://hkupop.hku.hk/chinese/resources/workshops/20050430/bulkmail.htm" TargetMode="External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30/N_TP_20050426_RTHK_1800.mp3" TargetMode="External"/><Relationship Id="rId2" Type="http://schemas.openxmlformats.org/officeDocument/2006/relationships/hyperlink" Target="http://hkupop.hku.hk/chinese/resources/workshops/20050430/HKATV.htm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ublic Lecture on the Analysis of Sample Surveys: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ublic Opinion Survey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HKU Course STAT1304, 30 April 2005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 (audio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he POP Site at 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OP press release of 26 April 200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fax to all media, 13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Bulkmail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4"/>
              </a:rPr>
              <a:t> via the POP Network, 13:4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How the story was reported by the electronic medi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RTHK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TV news on-line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VB news, 2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referen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182880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The 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W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A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ESOMAR’s (The World Association of Research Professionals)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NCPP’s website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(The 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Please visit the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talk, “ stat05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133720"/>
            <a:ext cx="7391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Lectu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1440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74320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 case stud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edia report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me reference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 release of 26 April 2005 (Tue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Latest popularity figures of Acting CE and HKSAR Govern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8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1337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Please use a scale of 0-100 to rate your extent of support to the Acting Chief Executive Donald Tsang Yam-kuen, with 0 indicating absolutely not supportive, 100 indicating absolutely supportive and 50 indicating half-half. How would you rate the Acting Chief Executive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If a general election of the Chief Executive were to be held tomorrow, and you had the right to vote, would you vote for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0"/>
            <a:ext cx="7696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 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maintenance of economic prosperity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improvement of people’s livelihood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228600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rotection of human rights and freedom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ace of democratic development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’s handling of its relation with the Central Governm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Cliff</cp:lastModifiedBy>
  <cp:lastPrinted>2001-04-04T10:00:24Z</cp:lastPrinted>
  <dcterms:modified xsi:type="dcterms:W3CDTF">2005-04-30T01:06:15Z</dcterms:modified>
  <cp:revision>568</cp:revision>
  <dc:subject/>
  <dc:title>無投影片標題</dc:title>
</cp:coreProperties>
</file>