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C3A-3742-4B35-A072-47E36209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DFC-70FC-4258-A847-6591E725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D1C-6021-4F2B-8BEB-CC8E6AF4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976-9D8D-4087-98BE-8A7B4ADE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5A8-C2F2-4DEF-8B33-10D00EDD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0A7-1C5F-4797-9805-F8DAE85D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74F-C9A6-485D-AA3A-4A5113E5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F6C9-EB9E-460A-A421-D3D26B5E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366-F52F-4019-8293-EFE9720A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057-CB58-4318-9855-5A79BE46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28F-15A4-4AA0-A213-225B915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10D-A2AD-494F-BECC-8F3D01C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AA73-A6C4-4820-B3B6-384A13967A71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07/tp0503b_que.htm" TargetMode="External"/><Relationship Id="rId2" Type="http://schemas.openxmlformats.org/officeDocument/2006/relationships/hyperlink" Target="http://hkupop.hku.hk/chinese/resources/workshops/20050407/tp0503c_que.htm" TargetMode="External"/><Relationship Id="rId3" Type="http://schemas.openxmlformats.org/officeDocument/2006/relationships/hyperlink" Target="http://hkupop.hku.hk/chinese/resources/workshops/20050407/tp0503b_admin.html" TargetMode="External"/><Relationship Id="rId4" Type="http://schemas.openxmlformats.org/officeDocument/2006/relationships/hyperlink" Target="http://hkupop.hku.hk/chinese/resources/workshops/20050407/tp0503c_admin.html" TargetMode="External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hyperlink" Target="http://hkupop.hku.hk/" TargetMode="External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407/rthk/rthk.htm" TargetMode="External"/><Relationship Id="rId2" Type="http://schemas.openxmlformats.org/officeDocument/2006/relationships/hyperlink" Target="http://hkupop.hku.hk/chinese/resources/workshops/20050407/Metro%20Radio.ht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Media and Public Opinion </a:t>
            </a:r>
            <a:br>
              <a:rPr sz="3600"/>
            </a:b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(Lecture for S4 and S6 students of Queen’s College)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, Director of Public Opinion Programm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7 April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1)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(1)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4"/>
              </a:rPr>
              <a:t>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4382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he POP Site at 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OP press release of 6 April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4:0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4:0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fax to all media, 14:1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mail via the POP Network, 14:16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43828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Quality control (q/c) measur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reported by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590920"/>
            <a:ext cx="5029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 news, 15:1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ing Pao website, 15:3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RTHK news, 15:33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 (voice clip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Metro news, 15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6019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apple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137440" cy="308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6172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Economic Times      7 April 2005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hket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719680" cy="423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ro Daily  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metro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235584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mingpao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943600" cy="28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lease visit the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/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en-US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[ today’s talk, “ queen’s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73392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oriental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832200" cy="464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867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MP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scmp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66544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5867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singpao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456000" cy="377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57800" y="34290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singtao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895480" cy="495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5715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singtao2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065560" cy="2630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257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he Sun 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sun" descr=""/>
          <p:cNvPicPr/>
          <p:nvPr/>
        </p:nvPicPr>
        <p:blipFill>
          <a:blip r:embed="rId1"/>
          <a:stretch/>
        </p:blipFill>
        <p:spPr>
          <a:xfrm>
            <a:off x="2362320" y="2317680"/>
            <a:ext cx="4601880" cy="222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5334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    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2" name="wenwei" descr=""/>
          <p:cNvPicPr/>
          <p:nvPr/>
        </p:nvPicPr>
        <p:blipFill>
          <a:blip r:embed="rId1"/>
          <a:stretch/>
        </p:blipFill>
        <p:spPr>
          <a:xfrm>
            <a:off x="762120" y="1927080"/>
            <a:ext cx="7543800" cy="30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800"/>
            </a:gs>
            <a:gs pos="50000">
              <a:srgbClr val="006600"/>
            </a:gs>
            <a:gs pos="100000">
              <a:srgbClr val="00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91440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74320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 case study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Media report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Some closing remarks</a:t>
            </a: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04812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Please visit the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hkupop.hku.hk/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8195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9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basis of  professionalism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24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ccffff"/>
                </a:solidFill>
                <a:latin typeface="Times New Roman"/>
              </a:rPr>
              <a:t>I Q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2860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POP release of 6 April 2005 (Wedne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eople's appraisal of merits and faults of Tung Chee-Hwa and some deceased Chinese leader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7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Questions the Appraisal of CH Tung</a:t>
            </a:r>
            <a:r>
              <a:rPr b="1" lang="zh-TW" sz="2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99"/>
                </a:solidFill>
                <a:latin typeface="Times New Roman"/>
              </a:rPr>
              <a:t>( 20 – 22 March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467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董建華已經辭任特首，你認為董建華對香港既整體發展功績多定過失多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董建華既功過比例大概係點分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董建華管治香港，主要既功績係屬於政治方面、定係經濟民生方面、定係其他方面、定係冇功績呢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董建華管治香港，主要既過失係屬於政治方面、定係經濟民生方面、定係其他方面、定係冇過失呢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Chinese Leaders</a:t>
            </a: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4 - 17 March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0"/>
            <a:ext cx="6933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你認為趙紫陽對中國既發展功多定過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你認為楊尚昆對中國既發展功多定過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你認為鄧小平對中國既發展功多定過多</a:t>
            </a:r>
            <a:r>
              <a:rPr b="1" lang="zh-TW" sz="28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你認為毛澤東對中國既發展功多定過多</a:t>
            </a: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你認為周恩來對中國既發展功多定過多</a:t>
            </a: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400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你認為蔣介石對中國既發展功多定過多</a:t>
            </a:r>
            <a:r>
              <a:rPr b="1" lang="zh-TW" sz="2800" spc="-1" strike="noStrike">
                <a:solidFill>
                  <a:srgbClr val="388ec8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590920"/>
            <a:ext cx="6705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是否登記選民、有否投票經驗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性別、年齡、教育程度、職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房屋類別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家庭階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4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出生地、居港年期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00"/>
            </a:gs>
            <a:gs pos="50000">
              <a:srgbClr val="006600"/>
            </a:gs>
            <a:gs pos="100000">
              <a:srgbClr val="00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175248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yennice</cp:lastModifiedBy>
  <cp:lastPrinted>2001-04-04T10:00:24Z</cp:lastPrinted>
  <dcterms:modified xsi:type="dcterms:W3CDTF">2005-04-07T04:28:51Z</dcterms:modified>
  <cp:revision>590</cp:revision>
  <dc:subject/>
  <dc:title>無投影片標題</dc:title>
</cp:coreProperties>
</file>