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FE63-BA93-44A9-AA61-BF89DD29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06F8-E627-4826-B2E5-3F6933F2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C4FF-6C0E-47CC-8152-E7B4C9A7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53C6-0691-4644-A6B2-2BB760E1D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9744-FF79-4EA9-A62D-C3DE2140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A9F2-CECA-47D4-88D9-1461A590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EB85-E465-4842-976A-9A1873BF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C079-484C-4D86-9123-98DA3DC8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2D47-5379-4F67-8216-60E2242E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A68D-2DA4-4178-8982-708B50E7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076E-9FA5-4E95-AE1D-14651F97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FBFB-D6EA-4A69-A24C-3D44053A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506F-B992-4BDC-B22A-8EBB01B5332B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121/pr_chi.htm" TargetMode="External"/><Relationship Id="rId2" Type="http://schemas.openxmlformats.org/officeDocument/2006/relationships/hyperlink" Target="http://hkupop.hku.hk/chinese/resources/workshops/20050121/pr_eng.htm" TargetMode="External"/><Relationship Id="rId3" Type="http://schemas.openxmlformats.org/officeDocument/2006/relationships/hyperlink" Target="http://hkupop.hku.hk/chinese/resources/workshops/20050121/POP%20Instant%20Poll%20on%20Policy%20Address.htm" TargetMode="External"/><Relationship Id="rId4" Type="http://schemas.openxmlformats.org/officeDocument/2006/relationships/hyperlink" Target="http://hkupop.hku.hk/chinese/resources/workshops/20050121/POP%20Instant%20Poll%20on%20Policy%20Address.htm" TargetMode="External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121/N_PA05_20050113_RTHK_1500.mp3" TargetMode="External"/><Relationship Id="rId2" Type="http://schemas.openxmlformats.org/officeDocument/2006/relationships/hyperlink" Target="http://hkupop.hku.hk/chinese/resources/workshops/20050121/mingpao.htm" TargetMode="External"/><Relationship Id="rId3" Type="http://schemas.openxmlformats.org/officeDocument/2006/relationships/hyperlink" Target="http://hkupop.hku.hk/chinese/resources/workshops/20050121/mingpao.htm" TargetMode="External"/><Relationship Id="rId4" Type="http://schemas.openxmlformats.org/officeDocument/2006/relationships/hyperlink" Target="http://hkupop.hku.hk/chinese/resources/workshops/20050121/mingpao.htm" TargetMode="External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121/N_PA05_20050113_ATV_1800.mpg" TargetMode="External"/><Relationship Id="rId2" Type="http://schemas.openxmlformats.org/officeDocument/2006/relationships/hyperlink" Target="http://hkupop.hku.hk/chinese/resources/workshops/20050121/N_PA05_20050113_ATV_2230.mpg" TargetMode="External"/><Relationship Id="rId3" Type="http://schemas.openxmlformats.org/officeDocument/2006/relationships/hyperlink" Target="http://hkupop.hku.hk/chinese/resources/workshops/20050121/N_PA05_20050113_TVB_1830.asf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9718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Public Opinion in Hong Kong:</a:t>
            </a:r>
            <a:br>
              <a:rPr sz="36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The Use and Misuse of Opinion Polls</a:t>
            </a:r>
            <a:br>
              <a:rPr sz="2800"/>
            </a:b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(Talk for MA Journalism Students, CUHK)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66"/>
                    </a:outerShdw>
                  </a:effectLst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09480" y="5257800"/>
            <a:ext cx="8153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By Karie Pang, Public Opinion Programme, HK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15 February 20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762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Questions for Instant Poll on 12 January 2005 (1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209680"/>
            <a:ext cx="75438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整體黎講，你對特首董建華今日發表既施政報告</a:t>
            </a:r>
            <a:r>
              <a:rPr b="1" lang="zh-TW" sz="2400" spc="-1" strike="noStrike" u="sng">
                <a:solidFill>
                  <a:srgbClr val="ffffcc"/>
                </a:solidFill>
                <a:uFillTx/>
                <a:latin typeface="Times New Roman"/>
              </a:rPr>
              <a:t>滿唔滿意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呢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宜家想請你對特首董建華今日發表既施政報告既滿意程度進行評分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,0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分代表非常不滿，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100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分代表非常滿意，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50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分代表一半半，你會</a:t>
            </a:r>
            <a:r>
              <a:rPr b="1" lang="zh-TW" sz="2400" spc="-1" strike="noStrike" u="sng">
                <a:solidFill>
                  <a:srgbClr val="ffffcc"/>
                </a:solidFill>
                <a:uFillTx/>
                <a:latin typeface="Times New Roman"/>
              </a:rPr>
              <a:t>俾幾多分今年既施政報告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呢？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係特首董建華今日發表佢第八份施政報告後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你對香港前途既</a:t>
            </a:r>
            <a:r>
              <a:rPr b="1" lang="zh-TW" sz="2400" spc="-1" strike="noStrike" u="sng">
                <a:solidFill>
                  <a:srgbClr val="ffffcc"/>
                </a:solidFill>
                <a:uFillTx/>
                <a:latin typeface="Times New Roman"/>
              </a:rPr>
              <a:t>信心增加定減少左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5238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762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Questions for Instant Poll on 12 January 2005 (2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2057400"/>
            <a:ext cx="76960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特首承認左政府「未能確立『以民為本』的施政理念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...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未能充分顧及社會的承受能力和政策本身可能引起的爭議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...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缺乏危機意識和政治意識，缺乏應付政經轉變所需的經驗和才能，處理一些突發事件時顯得進退失據。」你認為</a:t>
            </a:r>
            <a:r>
              <a:rPr b="1" lang="zh-TW" sz="2400" spc="-1" strike="noStrike" u="sng">
                <a:solidFill>
                  <a:srgbClr val="ffffcc"/>
                </a:solidFill>
                <a:uFillTx/>
                <a:latin typeface="Times New Roman"/>
              </a:rPr>
              <a:t>特首呢番說話可唔可以平復巿民既不滿情緒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特首今年發表施政報告既主題係「合力發展經濟、共建和諧社會」，你認為呢個</a:t>
            </a:r>
            <a:r>
              <a:rPr b="1" lang="zh-TW" sz="2400" spc="-1" strike="noStrike" u="sng">
                <a:solidFill>
                  <a:srgbClr val="ffffcc"/>
                </a:solidFill>
                <a:uFillTx/>
                <a:latin typeface="Times New Roman"/>
              </a:rPr>
              <a:t>主題是否切合社會需要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你認為特首</a:t>
            </a:r>
            <a:r>
              <a:rPr b="1" lang="zh-TW" sz="2400" spc="-1" strike="noStrike" u="sng">
                <a:solidFill>
                  <a:srgbClr val="ffffcc"/>
                </a:solidFill>
                <a:uFillTx/>
                <a:latin typeface="Times New Roman"/>
              </a:rPr>
              <a:t>有冇需要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係發表施政報告後</a:t>
            </a:r>
            <a:r>
              <a:rPr b="1" lang="zh-TW" sz="2400" spc="-1" strike="noStrike" u="sng">
                <a:solidFill>
                  <a:srgbClr val="ffffcc"/>
                </a:solidFill>
                <a:uFillTx/>
                <a:latin typeface="Times New Roman"/>
              </a:rPr>
              <a:t>直接同市民對話</a:t>
            </a: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15238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28600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e audio seg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WEBCATI input demonst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ality control measu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ress relea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28600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Sample audio seg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WEBCATI input demonst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ality control measu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ress relea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8600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e audio seg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WEBCATI input demonst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Quality control measu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ress relea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2286000"/>
            <a:ext cx="6400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OP press release of 13 January 200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The POP Site at http://hkupop.hku.hk/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Press release in Chinese, 13:3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Press release in English, 13:3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99ccff"/>
                </a:solidFill>
                <a:uFillTx/>
                <a:latin typeface="Times New Roman"/>
                <a:hlinkClick r:id="rId3"/>
              </a:rPr>
              <a:t>Bulkmail</a:t>
            </a:r>
            <a:r>
              <a:rPr b="0" lang="zh-TW" sz="2600" spc="-1" strike="noStrike" u="sng">
                <a:solidFill>
                  <a:srgbClr val="99ccff"/>
                </a:solidFill>
                <a:uFillTx/>
                <a:latin typeface="Times New Roman"/>
                <a:hlinkClick r:id="rId4"/>
              </a:rPr>
              <a:t> via the POP Network, 13:3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Bulkfax to all media, 13:43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6960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e audio seg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WEBCATI input demonstr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ality control measur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Press releas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 How it was reported by local media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2590920"/>
            <a:ext cx="50292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CR news, 14:38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RTHK news,14:57  </a:t>
            </a:r>
            <a:r>
              <a:rPr b="0" lang="zh-TW" sz="26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(Voice clip)</a:t>
            </a: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Ming </a:t>
            </a:r>
            <a:r>
              <a:rPr b="0" lang="zh-TW" sz="2600" spc="-1" strike="noStrike" u="sng">
                <a:solidFill>
                  <a:srgbClr val="99ccff"/>
                </a:solidFill>
                <a:uFillTx/>
                <a:latin typeface="Times New Roman"/>
                <a:hlinkClick r:id="rId3"/>
              </a:rPr>
              <a:t>Pao</a:t>
            </a:r>
            <a:r>
              <a:rPr b="0" lang="zh-TW" sz="2600" spc="-1" strike="noStrike" u="sng">
                <a:solidFill>
                  <a:srgbClr val="99ccff"/>
                </a:solidFill>
                <a:uFillTx/>
                <a:latin typeface="Times New Roman"/>
                <a:hlinkClick r:id="rId4"/>
              </a:rPr>
              <a:t> website, 15:32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2590920"/>
            <a:ext cx="5486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TV    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13 January 2005 (1800 hours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TV    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13 January 2005 (2230 hours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VB    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Times New Roman"/>
                <a:hlinkClick r:id="rId3"/>
              </a:rPr>
              <a:t>13 January 2005 (1830 hours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VB    13 January 2005 (2345 hours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World    13 January 2005 (2300 hours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Presentation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266688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What is public opinion?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inion polls: How they are done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Opinion polls: How they are reported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Closing remarks: Professional code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8288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57913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ng Kong Economic Journal      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4" name="2a_20050114_HK%20Economic%20Journal_45％受訪者指董認錯未息不滿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585144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5943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pple Daily    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9" name="2a_20050114_Apple%20Daily_63%25%20人指董難達施政目標" descr=""/>
          <p:cNvPicPr/>
          <p:nvPr/>
        </p:nvPicPr>
        <p:blipFill>
          <a:blip r:embed="rId1"/>
          <a:stretch/>
        </p:blipFill>
        <p:spPr>
          <a:xfrm>
            <a:off x="2133720" y="2133720"/>
            <a:ext cx="4779720" cy="36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5867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K Economic Times      14 January 2005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4" name="2a_20050114_HK%20Economic%20Times「董認不足%20為改善市民關係」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410080" cy="34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5486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riental Daily News     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9" name="2a_20050114_Oriental%20Daily%20News_63%25市民對董無信心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5211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91320" y="373392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he Sun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4" name="2a_20050114_The%20Sun_董認施政失誤　45%25市民仍不滿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3565440" cy="40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43200" y="6095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K Standard   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9" name="2a_20050114_HK%20Standard_Speech%20wins%20higher%20rating%20than%20in%20previous%20years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69932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57913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K Commercial Daily     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4" name="2a_20050114_HK%20Commercial%20Daily_董報告民調創新高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5389560" cy="23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5867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Ming Pao 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9" name="2a_20050114_Ming%20Pao_施政報告6年最多人滿意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1532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5791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K Daily News     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4" name="2a_20050114_HK%20Daily%20News_近四成人滿意施政報告" descr=""/>
          <p:cNvPicPr/>
          <p:nvPr/>
        </p:nvPicPr>
        <p:blipFill>
          <a:blip r:embed="rId1"/>
          <a:stretch/>
        </p:blipFill>
        <p:spPr>
          <a:xfrm>
            <a:off x="2895480" y="2133720"/>
            <a:ext cx="3365640" cy="33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33920" y="3962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etro Daily      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9" name="2a_20050114_Metro_施政報告民調評分%206年最高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171288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0720" y="2895480"/>
            <a:ext cx="75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What is Public Opinion?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5486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ing Tao Daily     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4" name="2a_20050114_Sing%20Tao%20Daily_《施政報告》評分七年新高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4973760" cy="28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57150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ing Tao Daily     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9" name="2a_20050114_Sing%20Tao%20Dailyl_特首施政報告評分創新高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46083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5812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Ta Kung Pao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4" name="2a_20050114_Ta%20Kung%20Pao_施政報告評分創新高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2570040" cy="37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3429000"/>
            <a:ext cx="2895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Wen Wei Pao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4 Januar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9" name="2a_20050114_Wen%20Wei%20Pao_最新民調：特首評分上升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26668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2057400"/>
            <a:ext cx="6324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aspect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clusivity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poon-feeding, “quotable quote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2666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514600"/>
            <a:ext cx="71625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A code of practice in Hong Kong..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e principle of “minimum disclosure” (For reference: Proposed Code of Professional Ethics and Practices for Public Opinion Research in Hong Kong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3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he “three I’s”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342900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3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he “three I’s” –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3429000"/>
            <a:ext cx="5715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ntegri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75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ccffff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What is Public Opinion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2133720"/>
            <a:ext cx="70106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Characteristic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A collection of individual opinion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Different from political attitud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Reaction to ad hoc issues or policies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Short-term judgment, changes over tim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74"/>
              </a:spcBef>
              <a:spcAft>
                <a:spcPts val="774"/>
              </a:spcAft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Various snapshots to be taken in order to track the opinion change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33520" y="4572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ing Remarks: The 3“I”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2057400"/>
            <a:ext cx="373356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formation</a:t>
            </a:r>
            <a:r>
              <a:rPr b="0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資訊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ccffff"/>
                </a:solidFill>
                <a:latin typeface="Times New Roman"/>
              </a:rPr>
              <a:t>- scientific, unbiased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ccffff"/>
                </a:solidFill>
                <a:latin typeface="Times New Roman"/>
              </a:rPr>
              <a:t>- true, comprehensiv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ccffff"/>
                </a:solidFill>
                <a:latin typeface="Times New Roman"/>
              </a:rPr>
              <a:t>- knowledgeable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2209680"/>
            <a:ext cx="42674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7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ntegrity</a:t>
            </a:r>
            <a:r>
              <a:rPr b="0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誠信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ccffff"/>
                </a:solidFill>
                <a:latin typeface="Times New Roman"/>
              </a:rPr>
              <a:t>- ethical, profession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zh-TW" sz="2600" spc="-1" strike="noStrike">
                <a:solidFill>
                  <a:srgbClr val="ccffff"/>
                </a:solidFill>
                <a:latin typeface="Times New Roman"/>
              </a:rPr>
              <a:t>- honesty is the best policy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4343400"/>
            <a:ext cx="457200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I”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自信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I am the mov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buClr>
                <a:srgbClr val="cc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I am uniqu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1523880"/>
            <a:ext cx="7543800" cy="2590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 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What is Public Opinion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198108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Major producers of “opinion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academic secto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commercial sector: market researcher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government sector: e.g. CPU, HAB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NG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Political parties and pressure group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791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imes New Roman"/>
              </a:rPr>
              <a:t>*Between 19/8 - 25/8/2002, 72 poll reports were carried by local newspapers in a week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What is Public Opinion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057400"/>
            <a:ext cx="7467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ffff99"/>
                </a:solidFill>
                <a:latin typeface="Times New Roman"/>
              </a:rPr>
              <a:t>Major carriers of “public opinion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Newspaper columns, editorials, letters to the editor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Radio phone-in programs -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千禧年代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從晴朗的一天出發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為人民服務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自由風自由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Phone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左右大局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alk shows - 18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樓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座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TV programs -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新聞透視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星期日檔案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, </a:t>
            </a: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頭條新聞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ffff"/>
                </a:solidFill>
                <a:latin typeface="Times New Roman"/>
              </a:rPr>
              <a:t>Opinion poll report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Operation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inion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1828800"/>
            <a:ext cx="7238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Different stages in conducting an “opinion poll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dentification of areas of investig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ing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estionnaire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eld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 and clea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lease of findings: press release, press conferenc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c1"/>
            </a:gs>
            <a:gs pos="50000">
              <a:srgbClr val="0000ff"/>
            </a:gs>
            <a:gs pos="100000">
              <a:srgbClr val="0000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A Recent Operation on Policy Addres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590920"/>
            <a:ext cx="70102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0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A recent case…..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  <a:ea typeface="新細明體"/>
              </a:rPr>
              <a:t>POP release of 13 January 2005 (Thursday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People's instant reaction to the policy addres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9 opinion questions + 2 rating ques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5-02-15T07:41:48Z</dcterms:modified>
  <cp:revision>595</cp:revision>
  <dc:subject/>
  <dc:title>無投影片標題</dc:title>
</cp:coreProperties>
</file>