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D26FFF-C649-4F47-9201-E783EA57A88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116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B21-64AC-45E0-A4D4-8F2FCBF6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7D1-5EAD-4659-84AB-698B0B28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043-4DAF-4D93-8FD8-B921CDA9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EC7-3D0B-4EA3-ADA3-77973464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C644-D273-47B5-B58C-8552CD35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E9AE-AC4C-4D2D-9703-ADF77019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F605-152B-41BF-9810-C80A0E3F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E71A-2D70-483A-98FB-A22F787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CD2C-FF7F-4E1F-8CAC-B45F452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F3DF-284E-4E69-BF42-D17E64AD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3F14-224D-419D-980E-B0B7B98B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A42-8CCC-431E-9D24-39EE3DA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6A3F-F064-4296-9D5E-3BEAF161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3A27-877F-4945-81D7-2E3E253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395D-591F-47FC-BDED-E5D92B0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A326-E5D0-47CC-BDEC-E231BA3E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E4D5-11C6-457A-96C9-DD94B7B7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08B-4FD8-42C3-BB80-D27EE512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BCD6-0B86-45E7-AAAB-8257332C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AF9-128D-4B09-9381-BDF80DE1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D9CC-9C39-450F-B99C-C95C7C79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48A-78C3-46B0-B4F7-DBA6B77C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8383-3FA3-463B-9787-848A3FD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36F6-8679-4A32-9A4A-26A12444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611-2F68-4C67-8108-F8D3A5B77065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692-D49C-4E8A-BBF5-04D1C2E6B466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lease/release197.html" TargetMode="External"/><Relationship Id="rId2" Type="http://schemas.openxmlformats.org/officeDocument/2006/relationships/hyperlink" Target="http://hkupop.hku.hk/english/release/release197.html" TargetMode="External"/><Relationship Id="rId3" Type="http://schemas.openxmlformats.org/officeDocument/2006/relationships/hyperlink" Target="http://hkupop.hku.hk/english/resources/workshops/20040728/20040727_bulkmail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84836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r" pos="760572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</a:rPr>
              <a:t>香港大學民意研究計劃</a:t>
            </a:r>
            <a:br>
              <a:rPr sz="28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民意調查與抽樣方法</a:t>
            </a:r>
            <a:br>
              <a:rPr sz="3600"/>
            </a:br>
            <a:br>
              <a:rPr sz="2400"/>
            </a:b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004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年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7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28-29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日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43000" y="4114800"/>
            <a:ext cx="73915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W Kwong-pok Cliff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周廣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SOI Pui-shing Tony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蔡沛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 Ka-man Carmen 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陳嘉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1520" y="24382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位於香港大學明華綜合大樓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2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hku1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ku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58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位於九龍漾日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的電話訪問中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ahab01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rahb02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hab5" descr=""/>
          <p:cNvPicPr/>
          <p:nvPr/>
        </p:nvPicPr>
        <p:blipFill>
          <a:blip r:embed="rId1"/>
          <a:stretch/>
        </p:blipFill>
        <p:spPr>
          <a:xfrm>
            <a:off x="196848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hab6" descr=""/>
          <p:cNvPicPr/>
          <p:nvPr/>
        </p:nvPicPr>
        <p:blipFill>
          <a:blip r:embed="rId1"/>
          <a:stretch/>
        </p:blipFill>
        <p:spPr>
          <a:xfrm>
            <a:off x="2057400" y="0"/>
            <a:ext cx="520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hab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hab1" descr=""/>
          <p:cNvPicPr/>
          <p:nvPr/>
        </p:nvPicPr>
        <p:blipFill>
          <a:blip r:embed="rId1"/>
          <a:stretch/>
        </p:blipFill>
        <p:spPr>
          <a:xfrm>
            <a:off x="0" y="12600"/>
            <a:ext cx="929628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活 動 內 容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講座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民意研究計劃 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日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「民意網站」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調查抽樣方法簡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ffff00"/>
                </a:solidFill>
                <a:uFillTx/>
                <a:latin typeface="Times New Roman"/>
              </a:rPr>
              <a:t>參觀部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介紹電腦輔助電話調查系統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T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電話訪問示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imes New Roman"/>
              </a:rPr>
              <a:t>圖片展覽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hab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hab4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666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研究計劃成員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出席論壇、研討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Arial"/>
              </a:rPr>
              <a:t>及新聞發佈會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resscon1" descr="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resscon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resscon8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resscon9" descr=""/>
          <p:cNvPicPr/>
          <p:nvPr/>
        </p:nvPicPr>
        <p:blipFill>
          <a:blip r:embed="rId1"/>
          <a:stretch/>
        </p:blipFill>
        <p:spPr>
          <a:xfrm>
            <a:off x="0" y="-355680"/>
            <a:ext cx="10744200" cy="72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esscon10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esscon11" descr=""/>
          <p:cNvPicPr/>
          <p:nvPr/>
        </p:nvPicPr>
        <p:blipFill>
          <a:blip r:embed="rId1"/>
          <a:stretch/>
        </p:blipFill>
        <p:spPr>
          <a:xfrm>
            <a:off x="-380880" y="25560"/>
            <a:ext cx="998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190512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謝謝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民意研究計劃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004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年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27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日 新聞公報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243792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公報原文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民意網站內中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2"/>
              </a:rPr>
              <a:t>民意網站內英文公報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上網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民意網絡集體電郵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14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本地傳媒集體傳真（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14:22 </a:t>
            </a: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發出）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香港大學「民意網站」簡介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最新內容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新聞公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調查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研究報告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民意專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網上資源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檔案資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關於我們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訪者留言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582560"/>
            <a:ext cx="66294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號碼抽樣方法是從住宅電話簿中首先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法抽取「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種籽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加一減一加二減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的方法產生另一組號碼，然後在混合後再過濾重覆號碼，再以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隨機排列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方式排次成為最後樣本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抽取住戶成員的方法是由訪員在成功接觸目標住戶後，用「即將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出生日期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」的方法由當時在家的成員抽取其中一人進行訪問。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抽樣方法 </a:t>
            </a: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1629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各次調查的成功樣本數目都在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。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2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年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月份起，成功樣本數目更增加至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以上，兼且根據香港人口的年齡性別分佈加權調整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所有調查都是在嚴格督導下由訪員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親身進行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電話訪問，對象皆為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18</a:t>
            </a:r>
            <a:r>
              <a:rPr b="1" lang="zh-TW" sz="2400" spc="-1" strike="noStrike" u="sng">
                <a:solidFill>
                  <a:srgbClr val="ffff00"/>
                </a:solidFill>
                <a:uFillTx/>
                <a:latin typeface="MingLiU"/>
              </a:rPr>
              <a:t>歲或以上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之操粵語的香港市民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簡單總結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705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一般而論，成功樣本數目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5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便算可以接受，達到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1000</a:t>
            </a: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個可算符合國際標準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科學化的抽樣方法比樣本數目更加重要，因為可以用統計理論推算抽樣誤差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因此，一般街頭訪問或音頻互動電話錄音訪問不可接受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MingLiU"/>
              </a:rPr>
              <a:t>民意研究者和傳媒工作者都有責任維護民意調查的專業水平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2514600"/>
            <a:ext cx="7391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Times New Roman"/>
              </a:rPr>
              <a:t>歡迎瀏覽 香港大學 民意網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bcbcb"/>
                </a:solidFill>
                <a:latin typeface="Times New Roman"/>
              </a:rPr>
              <a:t>香港大學民意研究計劃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109960" y="4191120"/>
            <a:ext cx="6348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我們的工作…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5:43:38Z</dcterms:created>
  <dc:creator>CHUNG Ting-yiu Robert</dc:creator>
  <dc:description/>
  <dc:language>en-US</dc:language>
  <cp:lastModifiedBy>PC84-CLIFF</cp:lastModifiedBy>
  <cp:lastPrinted>2000-02-18T04:31:22Z</cp:lastPrinted>
  <dcterms:modified xsi:type="dcterms:W3CDTF">2004-08-17T04:06:46Z</dcterms:modified>
  <cp:revision>137</cp:revision>
  <dc:subject/>
  <dc:title>Project Overview</dc:title>
</cp:coreProperties>
</file>