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0BFE22-2A90-4C1A-83B2-B33493FF18E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112-1473-4C4D-A04A-6B935526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F8F-9EA5-4167-8A39-89592A6F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75F6-FD89-49B2-B63F-85E5742C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4182-E69C-4208-914B-03971B3C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423B-B16B-4F69-B096-A6D42AC9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DEA9-4730-4935-A11A-E9AD475F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7CE8-C4A4-4803-89AF-8548CFCF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BA49-529B-47CE-BBD9-3E386EDD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65B2-E5AF-47A1-A5F0-A0722839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4767-6AF2-4CA2-A567-B4397E7D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3035-831E-44CE-AE55-E4B0A782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1BE-3D13-4EA4-8C6E-E4410A9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ECEB-0D6A-41E5-9D15-8E44821A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EED4-B970-472F-BBC4-CD7C538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2998-6797-4A4A-9513-B648CC54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A42E-DA9F-4184-9700-AA06377B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5FD5-C38A-44C6-9D02-9A455B16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8B23-6299-4A51-B942-4D20AE29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BF5-72A7-4F52-A4CE-A3725DE8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705-EEB2-4C56-97E4-8EA99D59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12A-4391-4F10-B54C-B5331D6D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3EB-F244-4EEA-9A4D-DCC012B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AB1-E47D-44D5-BB49-5855E63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5A7-5351-4879-A959-672DCA61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4FDB-E5FF-4B11-850B-B327736BD5C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BF06-A3DF-4DE6-A071-6FCEE30F2053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e Shiu Socio-Economic Study Project 200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4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RKSHOP ON SOCIAL SURVEYS AND FIELD OBSERVATION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、考察理論及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/6/2004, 1830-2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20040616_Apple%20Daily_港人反台獨比率微升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696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n Wei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20040616_Wen%20Wei%20Pao_民調反台獨人數上升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70102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 Pao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20040616_Sing%20Pao_市民對兩岸統一信心回升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019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ro Daily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20040616_都市日報_調查指港人多反對台獨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29718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Survey was Report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5638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ndard     16 June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20040616_HK%20Standard_SAR%20model%20takes%20hit%20in%20poll%20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8483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eld Observ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1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大學學生會、香港大學學生研究隊主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7-20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720" indent="-2034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同學 ＋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名單位代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uthor has been to Taiwan to observe the elections there for many years, he has always kept an eye on the development of the public opinion survey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exit poll of the presidential election in Taiwan…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s observed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edia in Taiwan is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ademics in Taiwan also not neutr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ivil service also not neutral civil servi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a serious lack of independent middle force in Taiwan society, which is not good for democratic develop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5256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 result, they cannot provide a credible middle force to socie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adequate Support Mechanisms in Taiwan’s Democratic System”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「台灣民主制度配套不足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ng Kong Economic Journa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hinese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English version at POP Si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Basics of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560" y="274320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case of public opinion surv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 One case of field obser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s of social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Questions and answ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31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5: Closing rema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5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5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36232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Questions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http:/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ckground Reading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/hkupop.hku.hk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ne Case of Public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贊唔贊成台灣獨立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o you agree to Taiwan becoming independ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贊成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gre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MingLiU"/>
              </a:rPr>
              <a:t>你有無信心大陸同台灣終於能夠統一？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re you confident in the ultimate reunification of Taiwan and Mainland Chin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有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冇信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Confiden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6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to s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7%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Questions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POP Survey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你認為「一國兩制」呢種制度是否適用於台灣地區</a:t>
            </a:r>
            <a:r>
              <a:rPr b="1" lang="zh-TW" sz="2400" spc="-1" strike="noStrike">
                <a:solidFill>
                  <a:srgbClr val="ffff00"/>
                </a:solidFill>
                <a:latin typeface="MingLiU"/>
              </a:rPr>
              <a:t>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 you think "One country, two systems" is applicable to Taiwa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不適用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pplic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唔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難講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sa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the Findings were Dispatched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P press release of 15 June 20: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Chinese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s release in English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mail via the POP Network, 13:4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lkfax to all media, 13:5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THK news,15:19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g Pao website, 15:3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21T02:37:17Z</dcterms:modified>
  <cp:revision>100</cp:revision>
  <dc:subject/>
  <dc:title>Project Overview</dc:title>
</cp:coreProperties>
</file>