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7E10E0-42AC-4963-B8D0-48DFFC14A2B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4CD-4F1F-42A4-87B0-DBDCA327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7F6-13C4-4647-BEDC-CEEA5B1A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322-58CC-45E2-BD02-A0B70EE7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AEF-098B-4E7C-BBE6-5851840B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983D-94EE-4F08-BDFE-6159275F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865-599D-4B1C-B132-D047360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EA7B-B4C3-4549-AE38-C89EF2AE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3E6A-E41F-4E86-9BDA-CFD3A9F3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333-7CC5-46D7-B737-6E22049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4220-119A-4966-8CD4-B1DECAA2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90FA-A7BA-4B56-9A27-C828531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59E-6CB5-4136-9639-8358D03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7C89-3902-4B9A-BE71-9AE285A4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6A2F-086C-4FBB-963B-E97616F7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670-730C-4574-A66E-12E5B45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E672-86BB-4E47-A3A0-904DC913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50B-2350-46ED-BEF5-16E224F0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53B-8A12-465E-A19A-71AA2908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FFB8-18C5-432C-B208-49B7F6C8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A49-8731-4BFC-8DF7-3CB61EC2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01A-BB1B-4F42-8C5E-301455B2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B48-BB49-40B3-91DC-5B99CCDC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17A-5161-4A60-987E-3A3E743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619-9D1D-4F5E-88E1-DC4F8A79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400E-68D2-41E0-A523-E8F94E4993C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486E-FF3C-4CF6-ABA6-C602CE6CA83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87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ILOP, 2004) </a:t>
            </a: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ORKSHOP ON SOCIAL RESEACH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KILLS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研究技巧工作坊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800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31/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2004, 1100-1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n 26: Ori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1: Learning basic concepts; designing a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ch 13-19: Taiwan trip (optio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2: Fieldwork and confronting practical probl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3: Data analysis and report compi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3: Final revi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1080" y="2286000"/>
            <a:ext cx="7085520" cy="1573200"/>
            <a:chOff x="991080" y="2286000"/>
            <a:chExt cx="7085520" cy="1573200"/>
          </a:xfrm>
        </p:grpSpPr>
        <p:grpSp>
          <p:nvGrpSpPr>
            <p:cNvPr id="117" name=""/>
            <p:cNvGrpSpPr/>
            <p:nvPr/>
          </p:nvGrpSpPr>
          <p:grpSpPr>
            <a:xfrm>
              <a:off x="991080" y="3196440"/>
              <a:ext cx="7085520" cy="662760"/>
              <a:chOff x="991080" y="3196440"/>
              <a:chExt cx="7085520" cy="662760"/>
            </a:xfrm>
          </p:grpSpPr>
          <p:sp>
            <p:nvSpPr>
              <p:cNvPr id="118" name=""/>
              <p:cNvSpPr/>
              <p:nvPr/>
            </p:nvSpPr>
            <p:spPr>
              <a:xfrm>
                <a:off x="1073520" y="319644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10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67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8016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212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5744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4612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3508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86680" y="35503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994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00600" y="35503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64080" y="35521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157040" y="2286000"/>
              <a:ext cx="2667600" cy="15192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25000" y="2589480"/>
              <a:ext cx="20844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09400" y="2893320"/>
              <a:ext cx="1834200" cy="15156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inion Surveys and HKU POP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OP Site at http://hkupop.hku.h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 press release of 25 May 2004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Press release in Chinese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s release in English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mail via the POP Network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lkfax to all media, 14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THK news,162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g Pao website, 1558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VB story, 1830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V story, 2315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2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DISCUSS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ree Topics for Class Discu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43792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study the staff morale of a company, what do you foresee are the main problems, and how would you overcome them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going to visit a public relations consultant company for day, what would you like to find out, and how would you prepare for your visi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ould like to find out the views of tourists visiting Hong Kong, how would you conduct your stud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81532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RT 3</a:t>
            </a:r>
            <a:br>
              <a:rPr sz="4000"/>
            </a:br>
            <a:br>
              <a:rPr sz="2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OUP PRESENT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ME FINA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MARK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Student Research Team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eam of volunteer student researchers supported by P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opportunities for students to learn, organize and practice social re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data for public consumption and academic stud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DC03 – 23/11/03, pre-election observations and exit po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an1 – 1/1/04 – head counts of New Year R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TW04 – 17-20/3/04, a study trip to Tai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SU04 – opinion survey of HKU stud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Jun4 – provides support for head counts at June 4 candlelight vigil, and for on-site and on-line surv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 LC04 – studies on LC election 200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HKU POP SITE again…..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97144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ttp://hkupop.hku.hk/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utline of This S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24379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1: Corporate values and professional eth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2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 of social research, opinion surveys, and HKU P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3: Group discussions on three study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47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 4: Short presentation by particip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nsified Learning Opportunity Programm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OP is designed for students who aspire to become visionary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spons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esponsive leaders with strong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ommitment to society and lif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88620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Education Unit, H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ied Learning Opportunity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Values and Professional Ethics Programme (6 compan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search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815328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cial Research,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pinion Surveys,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HKU PO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ary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surv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-depth interviews: face-to-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research problem? How wide? How deep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desired method of data collec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ust it be finish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finding be presen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academic/intellectual value of the study? What further questions have been generat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naire (if applicab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sche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ecutive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/pream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design or method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fin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naire (if applicabl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docu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team me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ing down objectives and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 network dia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ng activity d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: analyze, re-plan, and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gency pl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6-17T04:41:29Z</dcterms:modified>
  <cp:revision>121</cp:revision>
  <dc:subject/>
  <dc:title>Project Overview</dc:title>
</cp:coreProperties>
</file>