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017-7FF7-4BE3-8C4F-955D0000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AD9-4519-466D-9503-2643DF12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1C1-0D44-4219-AA91-E7932BBA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AD3-272E-4F34-AB06-C0B63F80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D8E-24A6-4EA1-8AA0-0368F4C0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956-E2AB-44ED-9E61-75C22F32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6EA-AEDB-4F5D-8731-B9E159C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2DA-76F4-4D16-A363-A3F82AAA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D16-E3BA-48C5-9245-4A16D3AE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206-7345-4BA4-9CE6-84A0251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ACE-F4E1-4BF6-98D8-8D6BA70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F8D-B7AF-4722-AEE1-77B7FE27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A3C9-A853-4477-9BBC-19252ECDECB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poll02.gif" TargetMode="Externa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3/20040302_bulkmail.html" TargetMode="External"/><Relationship Id="rId2" Type="http://schemas.openxmlformats.org/officeDocument/2006/relationships/hyperlink" Target="http://hkupop.hku.hk/english/resources/workshops/20040310/atv02.mpg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cr.html" TargetMode="External"/><Relationship Id="rId2" Type="http://schemas.openxmlformats.org/officeDocument/2006/relationships/hyperlink" Target="http://hkupop.hku.hk/english/resources/workshops/20040310/rthk01.html" TargetMode="External"/><Relationship Id="rId3" Type="http://schemas.openxmlformats.org/officeDocument/2006/relationships/hyperlink" Target="http://hkupop.hku.hk/english/resources/workshops/20040310/rthk02.html" TargetMode="External"/><Relationship Id="rId4" Type="http://schemas.openxmlformats.org/officeDocument/2006/relationships/hyperlink" Target="http://hkupop.hku.hk/english/resources/workshops/20040310/mingpao.html" TargetMode="External"/><Relationship Id="rId5" Type="http://schemas.openxmlformats.org/officeDocument/2006/relationships/hyperlink" Target="http://hkupop.hku.hk/english/resources/workshops/20040310/mingpao.html" TargetMode="External"/><Relationship Id="rId6" Type="http://schemas.openxmlformats.org/officeDocument/2006/relationships/hyperlink" Target="http://hkupop.hku.hk/english/resources/workshops/20040310/mingpao.html" TargetMode="External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10/wisenews.html" TargetMode="External"/><Relationship Id="rId2" Type="http://schemas.openxmlformats.org/officeDocument/2006/relationships/hyperlink" Target="http://hkupop.hku.hk/english/resources/workshops/20040310/wisenews.html" TargetMode="External"/><Relationship Id="rId3" Type="http://schemas.openxmlformats.org/officeDocument/2006/relationships/hyperlink" Target="http://hkupop.hku.hk/english/resources/workshops/20040310/wisenews.html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0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outh China Morning Post  (3-3-20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: Another Surve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84872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People's confidence in “one country, two systems”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9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The originals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9-3-2004 in Chines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Release of 2-3-2004 in Chinese (14:21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bulmail of 2-3-2004 (14:21)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OP also sent bulkfax to the media (14:24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Electronic news media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ommercial Radio evening news  (18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evening news  (19:00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Asia TV evening news  (18:00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2057400"/>
            <a:ext cx="670536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On-line news medi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etro Finance website (15:35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Commercial Radio website  (15:36, 16:0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RTHK website #1  (16:09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RTHK website #2  (18:51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Ming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5"/>
              </a:rPr>
              <a:t> Pao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6"/>
              </a:rPr>
              <a:t> website  (16:44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Print media: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Apple Daily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Wen Wei P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Ming Pao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HK Economic Journal (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慧科新聞資料庫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Apple Daily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Ming Pao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ong Kong Economic Journal  (3-3-204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9T11:10:09Z</dcterms:modified>
  <cp:revision>582</cp:revision>
  <dc:subject/>
  <dc:title>無投影片標題</dc:title>
</cp:coreProperties>
</file>