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A526-893E-4725-9DE9-79B17F20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C2AB-E449-44B6-8C7F-63373A01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C90-44BC-4600-AE96-E48E7FDB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35DA-CF82-4BCA-A688-CDF2AF14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151-5E16-42E6-B37A-D46D319A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CF4D-FB75-4227-B8E7-16DEF695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48E-4E2B-41CA-88FA-71DE0225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891-2447-40FB-96AF-129AF9A1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96D7-A628-4F3D-826B-9D265F76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4853-44A3-442A-967E-77D9F9E4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C401-F1A5-4292-A680-09AF3107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37BC-A995-4C06-9CB1-5CC97D95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E6FE-D2C4-4CA8-A914-1D3568F8303C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04/poll02.gif" TargetMode="External"/><Relationship Id="rId2" Type="http://schemas.openxmlformats.org/officeDocument/2006/relationships/hyperlink" Target="http://hkupop.hku.hk/english/resources/workshops/20040304/poll02.gif" TargetMode="External"/><Relationship Id="rId3" Type="http://schemas.openxmlformats.org/officeDocument/2006/relationships/hyperlink" Target="http://hkupop.hku.hk/english/resources/workshops/20040304/poll02.gif" TargetMode="External"/><Relationship Id="rId4" Type="http://schemas.openxmlformats.org/officeDocument/2006/relationships/hyperlink" Target="http://hkupop.hku.hk/english/resources/workshops/20040304/poll02.gif" TargetMode="External"/><Relationship Id="rId5" Type="http://schemas.openxmlformats.org/officeDocument/2006/relationships/hyperlink" Target="http://hkupop.hku.hk/english/resources/workshops/20040304/poll02.gif" TargetMode="External"/><Relationship Id="rId6" Type="http://schemas.openxmlformats.org/officeDocument/2006/relationships/hyperlink" Target="http://hkupop.hku.hk/english/resources/workshops/20040304/poll07.gif" TargetMode="External"/><Relationship Id="rId7" Type="http://schemas.openxmlformats.org/officeDocument/2006/relationships/hyperlink" Target="http://hkupop.hku.hk/english/resources/workshops/20040304/poll14.gif" TargetMode="External"/><Relationship Id="rId8" Type="http://schemas.openxmlformats.org/officeDocument/2006/relationships/hyperlink" Target="http://hkupop.hku.hk/english/resources/workshops/20040304/poll14.gif" TargetMode="External"/><Relationship Id="rId9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04/cr.mp3" TargetMode="External"/><Relationship Id="rId2" Type="http://schemas.openxmlformats.org/officeDocument/2006/relationships/hyperlink" Target="http://hkupop.hku.hk/english/resources/workshops/20040304/cr.mp3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04/metro.html" TargetMode="External"/><Relationship Id="rId2" Type="http://schemas.openxmlformats.org/officeDocument/2006/relationships/hyperlink" Target="http://hkupop.hku.hk/english/resources/workshops/20040304/metro.html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kupop.hku.hk/english/resources/workshops/20040304/wisenews.htm" TargetMode="External"/><Relationship Id="rId2" Type="http://schemas.openxmlformats.org/officeDocument/2006/relationships/hyperlink" Target="http://hkupop.hku.hk/english/resources/workshops/20040304/wisenews.htm" TargetMode="External"/><Relationship Id="rId3" Type="http://schemas.openxmlformats.org/officeDocument/2006/relationships/hyperlink" Target="http://hkupop.hku.hk/english/resources/workshops/20040304/wisenews.htm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1237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200" spc="-1" strike="noStrike">
                <a:solidFill>
                  <a:srgbClr val="ffffcc"/>
                </a:solidFill>
                <a:latin typeface="Times New Roman"/>
              </a:rPr>
              <a:t>Lecture at Hong Kong Chu Hai College</a:t>
            </a:r>
            <a:br>
              <a:rPr sz="2800"/>
            </a:br>
            <a:r>
              <a:rPr b="1" i="1" lang="zh-TW" sz="2800" spc="-1" strike="noStrike">
                <a:solidFill>
                  <a:srgbClr val="ffffcc"/>
                </a:solidFill>
                <a:latin typeface="Times New Roman"/>
              </a:rPr>
              <a:t>Opinion Polls: Implications for Social Consensus</a:t>
            </a:r>
            <a:br>
              <a:rPr sz="2800"/>
            </a:br>
            <a:r>
              <a:rPr b="1" i="1" lang="zh-TW" sz="2800" spc="-1" strike="noStrike">
                <a:solidFill>
                  <a:srgbClr val="ffff99"/>
                </a:solidFill>
                <a:latin typeface="Times New Roman"/>
              </a:rPr>
              <a:t>香港珠海書院講座：民意調查與社會共識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1447920" y="5486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9880" y="1295280"/>
            <a:ext cx="4648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76520" y="1066680"/>
          <a:ext cx="17557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1755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914400" y="5181480"/>
            <a:ext cx="784872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Dr Robert Chung </a:t>
            </a:r>
            <a:r>
              <a:rPr b="1" i="1" lang="zh-TW" sz="2400" spc="-1" strike="noStrike">
                <a:solidFill>
                  <a:srgbClr val="ffffcc"/>
                </a:solidFill>
                <a:latin typeface="新細明體"/>
              </a:rPr>
              <a:t>鍾庭耀博士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ffcc"/>
                </a:solidFill>
                <a:latin typeface="Times New Roman"/>
              </a:rPr>
              <a:t>4-3-200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South China Morning Post 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3" name="20040303_SCMP_Beijing%20hits%20at%20US%20over%20Democrats'%20Washington%20trop" descr=""/>
          <p:cNvPicPr/>
          <p:nvPr/>
        </p:nvPicPr>
        <p:blipFill>
          <a:blip r:embed="rId1"/>
          <a:stretch/>
        </p:blipFill>
        <p:spPr>
          <a:xfrm>
            <a:off x="3048120" y="1447920"/>
            <a:ext cx="330840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明報另類民意調查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7" name="20040303_Ming%20Pao_李：北京如邀訪　取消赴美.1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46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cc"/>
                </a:solidFill>
                <a:latin typeface="Times New Roman"/>
              </a:rPr>
              <a:t>香港民情狀況（概括論述）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447920"/>
            <a:ext cx="716292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特首董建華評分 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 (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3"/>
              </a:rPr>
              <a:t>半年結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4"/>
              </a:rPr>
              <a:t>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董建華出任特首的假設投票結果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香港特區政府的信任程度及市民對北京中央政府的信任程度 – 綜合圖表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半年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5"/>
              </a:rPr>
              <a:t>結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6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香港前途的信心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半年結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中國前途的信心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按次計算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一兩制的信心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半年結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十大內地及台灣政治人物評分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最新數據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7"/>
              </a:rPr>
              <a:t>市民對台灣獨立的意見  (半年結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hlinkClick r:id="rId8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63480" indent="-66348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市民對兩岸統一的意見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半年結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ffff"/>
                </a:solidFill>
                <a:latin typeface="Times New Roman"/>
              </a:rPr>
              <a:t>討論項目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1337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77800" algn="ctr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民意調查與社會發展的關係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 algn="ctr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民意網站  </a:t>
            </a: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 algn="ctr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如何發揮民意力量？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 algn="ctr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如何發揚專業精神？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 algn="ctr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如何開拓人民力量？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1905120"/>
            <a:ext cx="7391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ff"/>
                </a:solidFill>
                <a:latin typeface="Times New Roman"/>
              </a:rPr>
              <a:t>謝謝！歡迎提問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民意調查與社會共識：講座大綱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286000"/>
            <a:ext cx="7086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研究計劃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2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日新聞公報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傳媒處理民意調查的方法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香港民情狀況：分化與共識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民意調查與社會發展：介紹「民意網站」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發揮民意力量、專業力量、人民力量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自由討論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民意研究計劃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日新聞公報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1676520"/>
            <a:ext cx="5639040" cy="42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1.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公報原文：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民意網站內中文公報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4:21 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上網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民意網站內英文公報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4:21 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上網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民意網絡集體電郵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4</a:t>
            </a:r>
            <a:r>
              <a:rPr b="0" lang="zh-TW" sz="2000" spc="-1" strike="noStrike" u="sng">
                <a:solidFill>
                  <a:srgbClr val="0033cc"/>
                </a:solidFill>
                <a:uFillTx/>
                <a:latin typeface="Times New Roman"/>
                <a:ea typeface=""/>
              </a:rPr>
              <a:t>:21 </a:t>
            </a:r>
            <a:r>
              <a:rPr b="0" lang="zh-TW" sz="2000" spc="-1" strike="noStrike" u="sng">
                <a:solidFill>
                  <a:srgbClr val="0033cc"/>
                </a:solidFill>
                <a:uFillTx/>
                <a:latin typeface="Times New Roman"/>
                <a:ea typeface=""/>
              </a:rPr>
              <a:t>發出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）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本地傳媒集體傳真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4:24 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發出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2.  </a:t>
            </a:r>
            <a:r>
              <a:rPr b="1" lang="zh-TW" sz="2400" spc="-1" strike="noStrike">
                <a:solidFill>
                  <a:srgbClr val="0033cc"/>
                </a:solidFill>
                <a:latin typeface="Times New Roman"/>
              </a:rPr>
              <a:t>電子傳媒報導：</a:t>
            </a:r>
            <a:r>
              <a:rPr b="0" lang="zh-TW" sz="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商業電台黃昏新聞 （</a:t>
            </a: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18:00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2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香港電台黃昏新聞 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9:00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r>
              <a:rPr b="0" lang="zh-TW" sz="800" spc="-1" strike="noStrike">
                <a:solidFill>
                  <a:srgbClr val="0033cc"/>
                </a:solidFill>
                <a:latin typeface="Times New Roman"/>
                <a:ea typeface=""/>
              </a:rPr>
              <a:t> 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亞洲電視黃昏新聞 （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18:00</a:t>
            </a:r>
            <a:r>
              <a:rPr b="0" lang="zh-TW" sz="20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民意研究計劃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日新聞公報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2057400"/>
            <a:ext cx="6019560" cy="34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.  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網上傳媒報導：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新城電台新聞網站 （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15:35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商業電台新聞網站 （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15:36, 16:01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香港電台新聞網站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#1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（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16:09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香港電台新聞網站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#2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（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18:51 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明報即時新聞網站 （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16:44</a:t>
            </a: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民意研究計劃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日新聞公報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1905120"/>
            <a:ext cx="5562360" cy="44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4.  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報章報導：</a:t>
            </a:r>
            <a:r>
              <a:rPr b="0" lang="zh-TW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蘋果日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文匯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明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信報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cc"/>
                </a:solidFill>
                <a:latin typeface="Times New Roman"/>
                <a:ea typeface=""/>
              </a:rPr>
              <a:t>South China Morning Pos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1"/>
              </a:rPr>
              <a:t>慧科新聞資料庫（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2"/>
              </a:rPr>
              <a:t>Wisenews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Times New Roman"/>
                <a:ea typeface=""/>
                <a:hlinkClick r:id="rId3"/>
              </a:rPr>
              <a:t>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304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蘋果日報 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37160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6" name="2a_20040303_Apple%20Daily_中央形象受損港人信任度急趺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032600" cy="3811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00400" y="59626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Wen Wei P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1" name="2a_20040303_Wen%20Wei%20Pao_調查指特首民望微趺.1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62012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明報 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5" name="2a_20040303_Ming%20Pao_港大民調：市民對中央信任度下趺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24868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信報 （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－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2004</a:t>
            </a:r>
            <a:r>
              <a:rPr b="1" lang="zh-TW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295280"/>
            <a:ext cx="7620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1337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9" name="2a_20040303_HK%20Economic%20Journal_港人對中央政府信任度急趺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2517480" cy="520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PC84-CLIFF</cp:lastModifiedBy>
  <cp:lastPrinted>2001-04-04T10:00:24Z</cp:lastPrinted>
  <dcterms:modified xsi:type="dcterms:W3CDTF">2004-03-04T04:02:04Z</dcterms:modified>
  <cp:revision>574</cp:revision>
  <dc:subject/>
  <dc:title>無投影片標題</dc:title>
</cp:coreProperties>
</file>