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B1D-9D25-42A5-AAFA-B170BE4C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6BE-EEC4-49B1-8CB7-34839205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919-8666-4327-B3D9-11082AD9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346-ED51-4E47-97DC-2EEFB26E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36E-7B56-4612-BC67-08CD11AC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F59-3ED6-4D3A-A72F-01EEFA6C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5CA-B500-4279-9775-9DA7A9C9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2B7-E44C-4F92-BC4F-1FFF4558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803-1BD7-435E-90DF-51E8261F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A10-D0AC-49A4-B616-DFBD0CE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F83-45BD-4E51-B506-106953D1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C3A-7E02-4B1C-A358-A8952E89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7350-1AA0-494F-AA4E-7A198E5A553B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M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edia Training and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Public Opinion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Workshop: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Session on Public Opinion</a:t>
            </a:r>
            <a:br>
              <a:rPr sz="2800"/>
            </a:br>
            <a:br>
              <a:rPr sz="1000"/>
            </a:b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傳媒訓練及民意研究工作坊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 ：民意</a:t>
            </a:r>
            <a:r>
              <a:rPr b="1" i="1" lang="zh-TW" sz="2800" spc="-1" strike="noStrike">
                <a:solidFill>
                  <a:srgbClr val="ffff99"/>
                </a:solidFill>
                <a:latin typeface="新細明體"/>
              </a:rPr>
              <a:t>研究</a:t>
            </a: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部份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3 March 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3623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’s treatment of the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HKU POP Press Release of 2 March 200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1447920"/>
            <a:ext cx="70866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The original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Chinese (on-line from 14:2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press release in English (on-line from 14:21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mail sent through our POP Network (14:23 hr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Our bulkfax was sent to the media at 14:24 h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The reports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etro news on-line in Chinese (15:35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CR news on-line in Chinese (15:36, 16:0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1 on-line in Chinese (16:09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THK news #2 on-line in Chinese (18:51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Ming Pao news on-line (16:44 hr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905120"/>
            <a:ext cx="71629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ublic Opinion Trend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828800"/>
            <a:ext cx="739152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300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independence of Taiwa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Opinion on cross-strait reunification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ublic Opinion and Government Polic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Please visit our POP SIT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2T12:40:58Z</dcterms:modified>
  <cp:revision>542</cp:revision>
  <dc:subject/>
  <dc:title>無投影片標題</dc:title>
</cp:coreProperties>
</file>