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6F8-BC65-4D1A-974F-1066FFA6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2231-62F2-4E01-A36A-63938A30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F0A-D9DC-4C56-9AA0-9B6F5184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502-2C94-438F-9265-874A2926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812-8B12-425D-83D9-21C2DAD8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ED8-210F-4B93-AC0F-DDA85AA0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8C5-65E0-461A-A61D-0F93A759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CBC6-875A-4AF6-BFAF-1C2C503B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B6B-4396-491C-AB99-55447498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1806-9DEB-4191-A365-401A954E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49F1-3E00-44FC-96FB-0D1A3317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364A-1D84-4E62-940F-96E2A902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1FEA-AFFC-4410-8496-DA1F8A3D11E4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kupop.hku.hk/chinese/popexpress/mostcon/sat/halfyr/chart/halfyr1.gif" TargetMode="External"/><Relationship Id="rId2" Type="http://schemas.openxmlformats.org/officeDocument/2006/relationships/hyperlink" Target="http://hkupop.hku.hk/chinese/popexpress/yearend/datatables7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ffff00"/>
                </a:solidFill>
                <a:latin typeface="Times New Roman"/>
              </a:rPr>
              <a:t>Public Opinion in Policy Making</a:t>
            </a:r>
            <a:br>
              <a:rPr sz="3600"/>
            </a:b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Leadership In Action (LIA) Programme No.1, 2003</a:t>
            </a:r>
            <a:br>
              <a:rPr sz="2000"/>
            </a:b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Civil Service Training and Development Institute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09480" y="5105520"/>
            <a:ext cx="8153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Robert Chung, Director of Public Opinion Programme, HK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8-10-2003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2438280"/>
            <a:ext cx="6476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 collections of individual opinion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Different from political attitud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eaction to </a:t>
            </a:r>
            <a:r>
              <a:rPr b="0" i="1" lang="en-US" sz="2500" spc="-1" strike="noStrike">
                <a:solidFill>
                  <a:srgbClr val="ccffff"/>
                </a:solidFill>
                <a:latin typeface="Times New Roman"/>
              </a:rPr>
              <a:t>ad hoc</a:t>
            </a: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 issues or policies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hort-term judgment can change over tim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2209680"/>
            <a:ext cx="6095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GIS, district offices, APIs…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advisory bodies, special committe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opinion leaders, business tycoons, pressure groups, academic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eliberate leakage of information to selected media from “unnamed” sourc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1981080"/>
            <a:ext cx="6858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commercial sector: market research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academic secto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government sector: HAB, CPU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olitical parties, pressure groups, NG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In the week of 19/8 - 25/8/2002, local newspapers carried 72 poll repor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981080"/>
            <a:ext cx="7162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Public opinion as input to the political syste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Feedback to policy proposals, via Green Papers, White Papers, consultation documents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genda setting, especially via phone-in programmes, letters to the editor, petitions, demonstration, etc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Participation in the electoral proc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Indirect representation in counci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Referendum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OP Poll Finding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P Poll Findings on Key Issu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752480"/>
            <a:ext cx="7543800" cy="40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1.  Popularity of Chief Executive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Latest rating of CE (per pol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Rating of CE (half-yearly average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Hypothetical voting on Tung Chee-hwa as C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eople's appraisal of CE Tung Chee-hwa's job performanc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People's satisfaction with the policy direction of CE Tung Chee-hwa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Four indicators on CE's popularity - Combined chart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P Poll Findings on Key Issu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1981080"/>
            <a:ext cx="71629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People’s Trust and Confidence :</a:t>
            </a:r>
            <a:r>
              <a:rPr b="1" lang="zh-TW" sz="25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trust in the HKSAR Government and Beijing Central Government - Combined charts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HK's future (half-yearly averag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China's future (per poll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People's confidence in “one country, two systems” (half-yearly averages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OP Poll Findings on Key Issu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828800"/>
            <a:ext cx="7391520" cy="38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3.  Popularity of Principal Officials :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ummary table of ratings of Principal Official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Ratings of Secretaries of Departments - Combined chart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Summary table of hypothetical voting of Principal Officials</a:t>
            </a:r>
            <a:r>
              <a:rPr b="1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 </a:t>
            </a:r>
            <a:br>
              <a:rPr sz="2000"/>
            </a:br>
            <a:r>
              <a:rPr b="1" lang="zh-TW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4.  Political Figures in Mainland China and Taiwan :</a:t>
            </a:r>
            <a:r>
              <a:rPr b="1" lang="zh-TW" sz="25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新細明體"/>
              </a:rPr>
              <a:t>Rating of the top ten political figures in Mainland China and Taiwan (latest figure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eople’s Priority as Reflected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n the Pol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eople’s Priority as Reflected in POP Poll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People’s most concerned problem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People's satisfaction with current political, economic and social conditions - Combined charts (half-yearly averages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People's dissatisfaction with current political, economic and social conditions - Combined charts 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(half-yearly averages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What do you think is the most important problem that the government should tackle next year? 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</a:rPr>
              <a:t>The Chief Executive will soon announce his policy address. What should be the focu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057400"/>
            <a:ext cx="7315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oretical aspects of public opin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Poll finding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eople’s priority as reflected in the poll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Government respects public opinion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Q &amp; 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Does our government respec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ublic opinion?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1: Article 23 Legisl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60020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ronology of events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2209680"/>
          <a:ext cx="7848720" cy="4916520"/>
        </p:xfrm>
        <a:graphic>
          <a:graphicData uri="http://schemas.openxmlformats.org/drawingml/2006/table">
            <a:tbl>
              <a:tblPr/>
              <a:tblGrid>
                <a:gridCol w="2197080"/>
                <a:gridCol w="5651640"/>
              </a:tblGrid>
              <a:tr h="41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 24, 200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an 28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Feb 26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l 1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l 5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l 6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l 7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 5, 200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posals to Implement A2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ompendium of Submissions on A23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ational Security Bill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500,000 people took to the street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E announced 3 major concessions, but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essed ahead for the Jul 9 deadlin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ames Tien resigned from ExCo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E announced withdrawal of </a:t>
                      </a:r>
                      <a:r>
                        <a:rPr b="0" i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S Bill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E announced withdrawal of th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egislative programme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44792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ronology of events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2286000"/>
          <a:ext cx="7848720" cy="4124160"/>
        </p:xfrm>
        <a:graphic>
          <a:graphicData uri="http://schemas.openxmlformats.org/drawingml/2006/table">
            <a:tbl>
              <a:tblPr/>
              <a:tblGrid>
                <a:gridCol w="2197080"/>
                <a:gridCol w="5651640"/>
              </a:tblGrid>
              <a:tr h="20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tember 22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Voting guidelines for the 2003   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C Election announced by the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Electoral Affairs Commission (EAC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olling time set at 0730 to 1930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3 hrs shorter than usual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t 23 to 25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Controversy sparked; opinions flooded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the EAC (168 submissions received)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emocratic Party opposed the new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arrangement and planned to seek for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judicial review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2743200"/>
          <a:ext cx="7620120" cy="2992320"/>
        </p:xfrm>
        <a:graphic>
          <a:graphicData uri="http://schemas.openxmlformats.org/drawingml/2006/table">
            <a:tbl>
              <a:tblPr/>
              <a:tblGrid>
                <a:gridCol w="2133720"/>
                <a:gridCol w="5486400"/>
              </a:tblGrid>
              <a:tr h="13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t 23 to 25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New timetable criticized as favorable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TW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 the pro-government candidates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September 26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ecision to slash the polling time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reversed by the EAC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buClr>
                          <a:srgbClr val="ccecff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he traditional voting hours of 0730 to 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230 reinstated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838080" y="182880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ronology of events: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152388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nalysis of Exit-poll data of 1999 &amp; 2000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38080" y="2362320"/>
          <a:ext cx="7162920" cy="3504960"/>
        </p:xfrm>
        <a:graphic>
          <a:graphicData uri="http://schemas.openxmlformats.org/drawingml/2006/table">
            <a:tbl>
              <a:tblPr/>
              <a:tblGrid>
                <a:gridCol w="1828800"/>
                <a:gridCol w="1095480"/>
                <a:gridCol w="1168560"/>
                <a:gridCol w="439560"/>
                <a:gridCol w="1241280"/>
                <a:gridCol w="138924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C 199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C 2000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P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AB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P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AB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7:31 – 10:30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.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.6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6.7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.6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:31 – 19:30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3.5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0.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.7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.3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:31 – 22:30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.4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4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0.6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52388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nalysis of Exit-poll data of 1999 &amp; 2000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09480" y="2286000"/>
          <a:ext cx="7925040" cy="3514680"/>
        </p:xfrm>
        <a:graphic>
          <a:graphicData uri="http://schemas.openxmlformats.org/drawingml/2006/table">
            <a:tbl>
              <a:tblPr/>
              <a:tblGrid>
                <a:gridCol w="1676160"/>
                <a:gridCol w="1558440"/>
                <a:gridCol w="1564920"/>
                <a:gridCol w="216000"/>
                <a:gridCol w="1374480"/>
                <a:gridCol w="1535040"/>
              </a:tblGrid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DC 1999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LC 2000</a:t>
                      </a: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-democracy Parti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-government Parti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-democracy Parti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Pro-government Parties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07:31 – 10:3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7.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8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5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8.6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:31 – 19:3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3.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0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2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61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:31 – 22:30</a:t>
                      </a:r>
                      <a:endParaRPr b="0" lang="en-US" sz="20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9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3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1.2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9.5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0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1368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762120" y="6095880"/>
            <a:ext cx="685800" cy="304920"/>
          </a:xfrm>
          <a:custGeom>
            <a:avLst/>
            <a:gdLst>
              <a:gd name="textAreaLeft" fmla="*/ 106920 w 685800"/>
              <a:gd name="textAreaRight" fmla="*/ 587160 w 685800"/>
              <a:gd name="textAreaTop" fmla="*/ 90360 h 304920"/>
              <a:gd name="textAreaBottom" fmla="*/ 2145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6413"/>
                </a:moveTo>
                <a:lnTo>
                  <a:pt x="13950" y="6413"/>
                </a:lnTo>
                <a:lnTo>
                  <a:pt x="13950" y="0"/>
                </a:lnTo>
                <a:lnTo>
                  <a:pt x="21600" y="10800"/>
                </a:lnTo>
                <a:lnTo>
                  <a:pt x="13950" y="21600"/>
                </a:lnTo>
                <a:lnTo>
                  <a:pt x="13950" y="15187"/>
                </a:lnTo>
                <a:lnTo>
                  <a:pt x="3375" y="15187"/>
                </a:lnTo>
                <a:close/>
              </a:path>
              <a:path w="21600" h="21600">
                <a:moveTo>
                  <a:pt x="0" y="6413"/>
                </a:moveTo>
                <a:lnTo>
                  <a:pt x="675" y="6413"/>
                </a:lnTo>
                <a:lnTo>
                  <a:pt x="675" y="15187"/>
                </a:lnTo>
                <a:lnTo>
                  <a:pt x="0" y="15187"/>
                </a:lnTo>
                <a:close/>
              </a:path>
              <a:path w="21600" h="21600">
                <a:moveTo>
                  <a:pt x="1350" y="6413"/>
                </a:moveTo>
                <a:lnTo>
                  <a:pt x="2700" y="6413"/>
                </a:lnTo>
                <a:lnTo>
                  <a:pt x="2700" y="15187"/>
                </a:lnTo>
                <a:lnTo>
                  <a:pt x="1350" y="15187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No bias towards any sid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1981080"/>
            <a:ext cx="68580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Lessons Learnt 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Government over-sensitive to public pressur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Hasty decisions in policy implementation erode efficacy of governa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Good consultation vital to new policy initiativ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rust the professionals, trust scientific dat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ase Study #2: Shortening of Voting Hou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2209680"/>
            <a:ext cx="6553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A code of practice in Hong Ko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international dimen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romote a knowledge-based polit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Encourage independent consultancy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4191120"/>
            <a:ext cx="46483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057400"/>
            <a:ext cx="6934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Don’t forget the 3I’s, which are much better than the 3R’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reasure your  I Q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4191120"/>
            <a:ext cx="46483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Q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0968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327672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prioritis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organi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-engine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Questions welcome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20968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eading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’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t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’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thmetic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20968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What do you associate with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27672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ival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Ronaldinh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981080"/>
            <a:ext cx="7696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Ex-FS Antony Leung repeatedly urged civil servants to embrace the “three Rs” to help build a cost-effective government in Hong Kong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Within Government we need to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priorit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to ensure that the services that utilise resources today is what society wants and needs today.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organise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by creating structures that make the best use of the private sector whilst fulfilling our policy and operational requirements. And we must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re-engineer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our own organisations and processes, to avoid duplication and multiple handling, and to use appropriate technologies t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the best effect.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2096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Let me introduce three new concepts -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335268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ffff"/>
                </a:solidFill>
                <a:uFillTx/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057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oretical Aspec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f Public Opin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4290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3-10-08T10:03:30Z</dcterms:modified>
  <cp:revision>528</cp:revision>
  <dc:subject/>
  <dc:title>無投影片標題</dc:title>
</cp:coreProperties>
</file>