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FF8-8B1E-4795-B93A-36523659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63D-1C9C-4783-80F8-331B6AC5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4D8-FE5D-49C0-9272-0F503495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27C-BE5C-4E3C-8C98-3DACDC8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6B4-BE6D-47A5-8E9C-6C611D9B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A8A-514D-4AC1-A2C7-0C41AB43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FD4-97FD-4E90-BDAD-053E6424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265-1B86-435E-8061-026B51F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677-3B3D-48D1-9A2F-5E66575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9CF-49F3-47DC-BEA4-2BB8944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4D6-9507-453E-BADF-8B2A2329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6EC-FC60-4E9E-A575-213A794A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67B0-BCB8-401F-9903-D97421772A40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200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顯理中學</a:t>
            </a: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2003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743200"/>
            <a:ext cx="7696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372960"/>
            <a:ext cx="739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286000"/>
            <a:ext cx="55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整體規劃</a:t>
            </a: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訂定調查目的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清楚界定目標被訪者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新細明體"/>
              </a:rPr>
              <a:t>確定被訪者認識調查項目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抽選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新細明體"/>
              </a:rPr>
              <a:t>採用隨機抽樣法，不能隨意更換樣本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352680"/>
            <a:ext cx="6781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問卷設計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卷長度要適中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避免使用艱深、含糊或帶有感情色彩的詞語或語句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問題應切合統計調查目的，並力求具體、清晰、直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可供選擇的答案應互相排斥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236232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581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 u="sng">
                <a:solidFill>
                  <a:srgbClr val="ccffff"/>
                </a:solidFill>
                <a:uFillTx/>
                <a:latin typeface="新細明體"/>
              </a:rPr>
              <a:t>發佈調查結果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個人資料須予保密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ffff"/>
                </a:solidFill>
                <a:latin typeface="Times New Roman"/>
              </a:rPr>
              <a:t>調查報告應包括統計調查中各方面的細節，並同時提供所用的統計調查方法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514600"/>
            <a:ext cx="6629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進行民意調查時注意事項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335268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新聞公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調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最新內容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81480" y="3429000"/>
            <a:ext cx="2286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報告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資源：中學師生民意研究習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32320" y="25146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網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810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謝謝</a:t>
            </a: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0384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PE01832_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2767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6504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52" name="PE02484_" descr=""/>
          <p:cNvPicPr/>
          <p:nvPr/>
        </p:nvPicPr>
        <p:blipFill>
          <a:blip r:embed="rId1"/>
          <a:stretch/>
        </p:blipFill>
        <p:spPr>
          <a:xfrm>
            <a:off x="685800" y="3600360"/>
            <a:ext cx="30956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362320"/>
            <a:ext cx="6705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特質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是個別人士意見的匯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可能是對城中話題或最新政策的表面反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有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362320"/>
            <a:ext cx="6629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影響民意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新聞處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、政策局等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半官方機構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間組織，如政黨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意見領袖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者專家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209680"/>
            <a:ext cx="6858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從事民意調查的組織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機關，如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公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術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組織、志願機構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05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播媒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410080"/>
            <a:ext cx="7162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於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19-25/8/200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的七天內， 本地報章刊共刊載民意調查結果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72 </a:t>
            </a:r>
            <a:r>
              <a:rPr b="1" lang="zh-TW" sz="1800" spc="-1" strike="noStrike">
                <a:solidFill>
                  <a:srgbClr val="ffff00"/>
                </a:solidFill>
                <a:latin typeface="Times New Roman"/>
              </a:rPr>
              <a:t>份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209680"/>
            <a:ext cx="7239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是政治體系的輸入部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透過咨詢文件收集民意，如印發白紙草案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對政策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、媒介及壓力團體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設定議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巿民以選票或全民投票表達意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民意代表在議會內發揮民意力量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8" name="BS00580_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35812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743200"/>
            <a:ext cx="7696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民意調查的實際運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74320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介紹香港大學民意研究計劃的工作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ff00"/>
                </a:solidFill>
                <a:uFillTx/>
                <a:latin typeface="Times New Roman"/>
              </a:rPr>
              <a:t>電話訪問錄音片段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的報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00800" y="3581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08:24Z</dcterms:modified>
  <cp:revision>670</cp:revision>
  <dc:subject/>
  <dc:title>無投影片標題</dc:title>
</cp:coreProperties>
</file>