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1DFC-6FB6-44E3-98D2-74BC507B7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493D-2F44-4F70-98C2-E62C5939E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914E-E62C-4BBA-BF93-CA20A7082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AC27-2459-4C86-829D-1EA259CEE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7FE5-A874-48BC-BAAF-74710E103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3270-36B0-410D-958F-5DCAB4ECC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30B4-FBFD-4479-B89E-30B0D593A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9F50-B31F-41EE-A113-1EAFB236D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9C1F-5BEA-4E9B-921C-55E2616FD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05A4-C233-460D-B1DF-C30FE262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65E2-3B8C-4088-BD88-7D1085E8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328D-058F-4269-8688-3DF357E6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9128E-5CCC-4DF6-9154-906410933C9D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97180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Public Opinion in Hong Kong:</a:t>
            </a:r>
            <a:br>
              <a:rPr sz="3600"/>
            </a:b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The Use and Misuse of Opinion Polls</a:t>
            </a:r>
            <a:br>
              <a:rPr sz="2800"/>
            </a:br>
            <a:r>
              <a:rPr b="1" i="1" lang="en-US" sz="2000" spc="-1" strike="noStrike">
                <a:solidFill>
                  <a:srgbClr val="ffffcc"/>
                </a:solidFill>
                <a:latin typeface="Times New Roman"/>
              </a:rPr>
              <a:t>(Lecture for CSD Senior Command Course No.1/2002)</a:t>
            </a: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9880" y="1295280"/>
            <a:ext cx="4648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676520" y="1066680"/>
          <a:ext cx="175572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066680"/>
                    <a:ext cx="17557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609480" y="5257800"/>
            <a:ext cx="815364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000" spc="-1" strike="noStrike">
                <a:solidFill>
                  <a:srgbClr val="ffffcc"/>
                </a:solidFill>
                <a:latin typeface="Times New Roman"/>
              </a:rPr>
              <a:t>Robert Chung, Director of Public Opinion Programme, HKU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000" spc="-1" strike="noStrike">
                <a:solidFill>
                  <a:srgbClr val="ffffcc"/>
                </a:solidFill>
                <a:latin typeface="Times New Roman"/>
              </a:rPr>
              <a:t>12 – 12 - 2002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990720" y="2590920"/>
            <a:ext cx="721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The Operation of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Opinion Research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 Operation of Opinion Research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752480"/>
            <a:ext cx="7238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Different stages in conducting an “opinion poll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Identification of research objectives and areas of investig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Sampling desig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Questionnaire desig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Fieldwork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Data analysis and cleani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Report compil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Release of finding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 Operation of Opinion Research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286000"/>
            <a:ext cx="76960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Demonstration of the POP’s oper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CATI and WEBCATI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Sample audio segmen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WEBCATI input demonstr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Quality control (q/c) measur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Press releas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363320" y="6858000"/>
            <a:ext cx="761760" cy="457200"/>
          </a:xfrm>
          <a:prstGeom prst="wedgeRectCallout">
            <a:avLst>
              <a:gd name="adj1" fmla="val -43518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295280" y="28954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Reading Media Report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 Operation of Opinion Research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2286000"/>
            <a:ext cx="76960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Demonstration of the POP’s oper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CATI and WEBCATI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Sample audio segmen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WEBCATI input demonstr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Quality control (q/c) measur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Press release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Wingdings"/>
                <a:ea typeface="Wingdings"/>
              </a:rPr>
              <a:t>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 How it was actually reporte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363320" y="6858000"/>
            <a:ext cx="761760" cy="457200"/>
          </a:xfrm>
          <a:prstGeom prst="wedgeRectCallout">
            <a:avLst>
              <a:gd name="adj1" fmla="val -43518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Reading Media Report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1981080"/>
            <a:ext cx="73915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Introducing codes of professional ethics and practices, and the principle of “minimum disclosure”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276720"/>
            <a:ext cx="70866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125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The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WAPOR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 standard (World Association for Public Opinion Research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spcBef>
                <a:spcPts val="125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The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APOR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 standard (American Association for Public Opinion Research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spcBef>
                <a:spcPts val="125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The European standard (European Society for Opinion and Marketing Research, 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ESOMAR</a:t>
            </a: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spcBef>
                <a:spcPts val="125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A Hong Kong standard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Reading Media Report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2514600"/>
            <a:ext cx="761976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Introducing the preliminary findings of the MRSHK Projec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The principle of “minimum disclosure”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Fieldwork: 19-25/8/2002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Reading Media Report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76520" y="2209680"/>
            <a:ext cx="62481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Characteristics of “media polls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Agenda setting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Tend to focus on negative feeling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Sensationalism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Rich graphics to achieve visual impact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Extensive coverage for exclusive poll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Reading Media Report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90720" y="2057400"/>
            <a:ext cx="71625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Major carriers of “public opinion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Radio phone-in programmes like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風波裏的茶杯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自由風自由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Phone ,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千禧年代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Talk shows like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政事有心人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, 18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樓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C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座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TV programmes like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新聞透視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頭條新聞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Newspaper columns, editorials, letters to the editor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Opinion poll report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14400" y="2514600"/>
            <a:ext cx="753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Theoretical Aspects of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Public Opinion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ffff"/>
                </a:solidFill>
                <a:latin typeface="Times New Roman"/>
              </a:rPr>
              <a:t>Outline of Presentation</a:t>
            </a:r>
            <a:endParaRPr b="0" lang="en-US" sz="4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2362320"/>
            <a:ext cx="7238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Opinion polls: How they are done?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Opinion polls: How they are reported?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ublic opinion: The theoretical aspect (very briefly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Closing remarks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oretical Aspects of Public Opin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76520" y="2362320"/>
            <a:ext cx="67053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Characteristics of “public opinion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A collections of individual opinion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Different from political attitude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Reaction to ad hoc issues or policies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Short-term judgment can change over time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1020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oretical Aspects of Public Opin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47920" y="1828800"/>
            <a:ext cx="670536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Other topics and further reading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Characteristics of “public opinion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Formation of “public opinion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Major producers of “opinion polls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Public opinion as input to the political system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4724280"/>
            <a:ext cx="65534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“ </a:t>
            </a:r>
            <a:r>
              <a:rPr b="1" lang="zh-TW" sz="2200" spc="-1" strike="noStrike">
                <a:solidFill>
                  <a:srgbClr val="ffff99"/>
                </a:solidFill>
                <a:latin typeface="Times New Roman"/>
              </a:rPr>
              <a:t>民意調查 </a:t>
            </a:r>
            <a:r>
              <a:rPr b="1" lang="zh-TW" sz="22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1" lang="zh-TW" sz="2200" spc="-1" strike="noStrike">
                <a:solidFill>
                  <a:srgbClr val="ffff99"/>
                </a:solidFill>
                <a:latin typeface="Times New Roman"/>
              </a:rPr>
              <a:t>發展歷史與政治功能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”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,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《政治學新論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: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西方學理與中華經驗》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鄭宇碩及羅金義編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, 1997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年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,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頁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369-397 .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香港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: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香港中文大學出版社 </a:t>
            </a:r>
            <a:r>
              <a:rPr b="0" lang="zh-TW" sz="2200" spc="-1" strike="noStrike">
                <a:solidFill>
                  <a:srgbClr val="ccffff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914400" y="26668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losing Remark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990720"/>
            <a:ext cx="8076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Clos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38080" y="2819520"/>
            <a:ext cx="76201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A code of practice in Hong Kong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Opinion polling in Greater China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Introducing the “POP Network”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22860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33520" y="457200"/>
            <a:ext cx="8076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Closing Remarks: The 3“I”s again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1676520"/>
            <a:ext cx="80769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2057400"/>
            <a:ext cx="3733560" cy="20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74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nformation</a:t>
            </a:r>
            <a:r>
              <a:rPr b="0" lang="zh-TW" sz="28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資訊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zh-TW" sz="2600" spc="-1" strike="noStrike">
                <a:solidFill>
                  <a:srgbClr val="388ec8"/>
                </a:solidFill>
                <a:latin typeface="Times New Roman"/>
              </a:rPr>
              <a:t>- scientific, unbiased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388ec8"/>
                </a:solidFill>
                <a:latin typeface="Times New Roman"/>
              </a:rPr>
              <a:t>	</a:t>
            </a:r>
            <a:r>
              <a:rPr b="0" lang="zh-TW" sz="2600" spc="-1" strike="noStrike">
                <a:solidFill>
                  <a:srgbClr val="388ec8"/>
                </a:solidFill>
                <a:latin typeface="Times New Roman"/>
              </a:rPr>
              <a:t>- true, comprehensive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388ec8"/>
                </a:solidFill>
                <a:latin typeface="Times New Roman"/>
              </a:rPr>
              <a:t>	</a:t>
            </a:r>
            <a:r>
              <a:rPr b="0" lang="zh-TW" sz="2600" spc="-1" strike="noStrike">
                <a:solidFill>
                  <a:srgbClr val="388ec8"/>
                </a:solidFill>
                <a:latin typeface="Times New Roman"/>
              </a:rPr>
              <a:t>- knowledgeable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95680" y="2209680"/>
            <a:ext cx="426744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74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ntegrity</a:t>
            </a:r>
            <a:r>
              <a:rPr b="0" lang="zh-TW" sz="28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誠信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zh-TW" sz="2600" spc="-1" strike="noStrike">
                <a:solidFill>
                  <a:srgbClr val="388ec8"/>
                </a:solidFill>
                <a:latin typeface="Times New Roman"/>
              </a:rPr>
              <a:t>- ethical, professional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388ec8"/>
                </a:solidFill>
                <a:latin typeface="Times New Roman"/>
              </a:rPr>
              <a:t>	</a:t>
            </a:r>
            <a:r>
              <a:rPr b="0" lang="zh-TW" sz="2600" spc="-1" strike="noStrike">
                <a:solidFill>
                  <a:srgbClr val="388ec8"/>
                </a:solidFill>
                <a:latin typeface="Times New Roman"/>
              </a:rPr>
              <a:t>- honesty is the best policy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14600" y="4343400"/>
            <a:ext cx="4572000" cy="21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“</a:t>
            </a: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I” 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自信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buClr>
                <a:srgbClr val="388ec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88ec8"/>
                </a:solidFill>
                <a:latin typeface="Times New Roman"/>
              </a:rPr>
              <a:t>I am the mover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buClr>
                <a:srgbClr val="388ec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388ec8"/>
                </a:solidFill>
                <a:uFillTx/>
                <a:latin typeface="Times New Roman"/>
              </a:rPr>
              <a:t>I am uniqu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838080" y="1523880"/>
            <a:ext cx="75438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Thank you very much !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2133720"/>
            <a:ext cx="7162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ew experience and fresh inform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USA Congress mid-term elections, 5 Nov 2002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The role of the medi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Mayors elections in Taiwan, 7 Dec 2002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The credibility issu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POP’s press release this week, 10 Dec 2002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Rating of CE and Principal Official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2057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New concepts for Hong Kong: the 3R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What do you associate with –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380988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057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New concepts for Hong Kong: the 3R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What do you associate with –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380988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e-prioritise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e-organis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e-enginee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981080"/>
            <a:ext cx="76960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Financial Secretary Antony Leung has urged civil servants to embrace the “three Rs” to help build a cost-effective government in Hong Kong…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“</a:t>
            </a: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Within Government we need to </a:t>
            </a:r>
            <a:r>
              <a:rPr b="1" lang="zh-TW" sz="2000" spc="-1" strike="noStrike" u="sng">
                <a:solidFill>
                  <a:srgbClr val="ffff99"/>
                </a:solidFill>
                <a:uFillTx/>
                <a:latin typeface="Times New Roman"/>
              </a:rPr>
              <a:t>re-prioritise</a:t>
            </a: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 to ensure that the services that utilise resources today is what society wants and needs today. We must </a:t>
            </a:r>
            <a:r>
              <a:rPr b="1" lang="zh-TW" sz="2000" spc="-1" strike="noStrike" u="sng">
                <a:solidFill>
                  <a:srgbClr val="ffff99"/>
                </a:solidFill>
                <a:uFillTx/>
                <a:latin typeface="Times New Roman"/>
              </a:rPr>
              <a:t>reorganise</a:t>
            </a: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 by creating structures that make the best use of the private sector whilst fulfilling our policy and operational requirements. And we must </a:t>
            </a:r>
            <a:r>
              <a:rPr b="1" lang="zh-TW" sz="2000" spc="-1" strike="noStrike" u="sng">
                <a:solidFill>
                  <a:srgbClr val="ffff99"/>
                </a:solidFill>
                <a:uFillTx/>
                <a:latin typeface="Times New Roman"/>
              </a:rPr>
              <a:t>re-engineer</a:t>
            </a: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 our own organisations and processes, to avoid duplication and multiple handling, and to use appropriate technologies to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the best effect.”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19320" y="2057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3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The “three I’s” –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90920" y="342900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19320" y="2057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3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The “three I’s” –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342900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nformat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ntegrity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33520" y="457200"/>
            <a:ext cx="8076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1676520"/>
            <a:ext cx="80769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2057400"/>
            <a:ext cx="3733560" cy="20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74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nformation</a:t>
            </a: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scientific, unbiased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true, comprehensive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knowledgeable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2209680"/>
            <a:ext cx="426744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74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ntegrity</a:t>
            </a: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ethical, professional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honesty is the best policy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4343400"/>
            <a:ext cx="4572000" cy="21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“</a:t>
            </a: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”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buClr>
                <a:srgbClr val="cc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I am the mover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buClr>
                <a:srgbClr val="cc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ffff"/>
                </a:solidFill>
                <a:uFillTx/>
                <a:latin typeface="Times New Roman"/>
              </a:rPr>
              <a:t>I am uniqu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PC84-CLIFF</cp:lastModifiedBy>
  <cp:lastPrinted>2001-04-04T10:00:24Z</cp:lastPrinted>
  <dcterms:modified xsi:type="dcterms:W3CDTF">2004-08-17T04:14:46Z</dcterms:modified>
  <cp:revision>537</cp:revision>
  <dc:subject/>
  <dc:title>無投影片標題</dc:title>
</cp:coreProperties>
</file>