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23D-8285-49DE-8265-B916D6A7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74A-E96B-4412-9E54-F1BDC66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7A1-E476-4566-A2B8-3689B49D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8567-32BF-471B-A73E-B97838DC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DF4-5DCE-4B03-8775-9C86D8E6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6F7-C27F-4352-9243-352F34FA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992-B732-4941-A00F-60FE2421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98F8-8609-4E0F-9030-CC4F6C38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397-035C-4039-AAD1-FD0D1D7E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E69-9D87-4BCC-8CF8-4EA7ACB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64AE-D3DB-47E9-878D-CD5FA47D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C0A-1058-4E81-BD44-D3FA9D0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42D2-87CE-4B22-8D26-50D75E337DC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Lecture on Public Opinion Survey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HKU Course STAT0104, 26 November 2002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82880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05740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HKU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omputer Assisted Telephone Interview Syst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 with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entation of survey resul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2514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oll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sour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Further Read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oretical aspects of “public opinion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0968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The 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’s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Directory of opinion research organizations worldwid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online-survey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Possible Topics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prac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133720"/>
            <a:ext cx="73915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Lectur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Interpreting media report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Today’s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209680"/>
            <a:ext cx="7391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oretical aspec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Public opinion: practical aspect – PO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methodological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terpreting media reports - examp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Further studies -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971800"/>
            <a:ext cx="4572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0:00-10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11:00-11:59p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:00-00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1:00-01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2:00-02:59a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03:00am or afte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1337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1. When did you go to bed last night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62320" y="2971800"/>
          <a:ext cx="487836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971800"/>
                    <a:ext cx="487836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3657600"/>
            <a:ext cx="4496040" cy="17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glis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ntone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No preferen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: Two Class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209680"/>
            <a:ext cx="7696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2. Which language do you prefer your lecturer to use in this lectur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3733920"/>
          <a:ext cx="6324480" cy="17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32448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3:10Z</dcterms:modified>
  <cp:revision>552</cp:revision>
  <dc:subject/>
  <dc:title>無投影片標題</dc:title>
</cp:coreProperties>
</file>