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09B-F6D8-4AA9-9116-33DD2B80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E63-4F10-4BFA-80FD-562E5FA9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D34-F420-4BFA-BB27-07D044BB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484-DE81-4D3C-AC7C-DD775EE2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FA2-80AC-4545-92EB-4C42FE13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239-0BB9-4E69-8763-B2F14B83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4AB-39BE-4E37-9AD2-38D53912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2A9-9B70-428A-A645-883DE68B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ECF-849F-44DB-959F-90A469E2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C19-E4B4-4198-A255-811AC04A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1FC-EC0A-4E3B-8779-AC4D446F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F30-35FA-4451-9E83-C17E8625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6F1A-47D6-4451-926E-1C5012D7D9D3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edia Training and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Public Opinion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Workshop: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Session on Pubic Opinion</a:t>
            </a:r>
            <a:br>
              <a:rPr sz="2800"/>
            </a:br>
            <a:br>
              <a:rPr sz="1000"/>
            </a:b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傳媒訓練及民意研究工作坊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：民意</a:t>
            </a: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研究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部份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19 – 11 -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1337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New experience and fresh inform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USA Congress mid-term elec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operation of pol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POP release of toda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Rating of top ten Legislative Councillo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Methodology and mis-interpret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oretical Aspects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ublic Opinio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36232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 collections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action to ad hoc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hort-term judgment can change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81080"/>
            <a:ext cx="7620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The formation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ia government bodies and officials: GIS, district offices, APIs, principal officials, CE Offi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ia advisory bodies and committe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via opinion leaders, business tycoons, pressure groups and academ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ntentional leakage of information to specific media organizations or political parties – the “reliable source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198108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commercial sector: market research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academic sec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government sector: HAB, CP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olitical parties and pressure grou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NG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791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etween 19/8 - 25/8/2002, 72 poll reports were carried by local newspapers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981080"/>
            <a:ext cx="7162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/c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captu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5280" y="2895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Prac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terpreting media reports </a:t>
            </a:r>
            <a:r>
              <a:rPr b="1" lang="zh-CN" sz="2800" spc="-1" strike="noStrike">
                <a:solidFill>
                  <a:srgbClr val="ccffff"/>
                </a:solidFill>
                <a:latin typeface="新細明體"/>
              </a:rPr>
              <a:t>－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astering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1337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.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星期一檔案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205740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preliminary findings of the MRSHK Projec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The principle of “minimum disclosure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Fieldwork: 19-25/8/2002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144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99072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uture Development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819520"/>
            <a:ext cx="7620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 code of practice 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HKU POP Sit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he international dimens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mportance of the 3“I”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mportance of the 3“I”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資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誠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自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88ec8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388ec8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5238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oncepts of the day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oncepts of the day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v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inh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oncepts of the day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98108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Financial Secretary Antony Leung has urged civil servants to embrace the “three Rs” to help build a cost-effective government in Hong Kong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Within Government we need to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priorit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to ensure that the services that utilise resources today is what society wants and needs today.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organ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by creating structures that make the best use of the private sector whilst fulfilling our policy and operational requirements. And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engineer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our own organisations and processes, to avoid duplication and multiple handling, and to use appropriate technologies 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the best effect.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0:06Z</dcterms:modified>
  <cp:revision>523</cp:revision>
  <dc:subject/>
  <dc:title>無投影片標題</dc:title>
</cp:coreProperties>
</file>