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E4A798-83E3-4737-B336-9A4343EA9F0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908-2791-4AD9-ACAE-AB5944E7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4DE-DDC3-4D3A-897C-1696806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299-3B88-4CEB-8BA3-46F9FDE5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F95D-78D7-4D2F-BBA9-12583C96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6795-580B-45A0-948C-B79B6956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DAB7-230C-49E2-8295-2B63B66C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863B-8296-42EA-BE6A-964866DC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5045-1D32-4DB2-9DB0-183CEA4B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8726-5A77-4817-AC6F-516854B5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4BB1-7D47-4857-8DD4-E29A786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8BF-463E-42DE-ADA4-54627EF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858-A87B-4A39-85DD-2130EBE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7EF-7A21-43E5-B913-5959DE4D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5153-17A9-4247-904C-D435BD0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469-30AA-467B-964E-3E67DAF8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51D4-24D1-41BB-ADB7-7B94EB62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CDEC-1F43-481C-BC36-FA2E5583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9CB-5225-41E6-B24A-2A0C85E5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BFE-F422-458E-A330-5D930DE5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A8D-758E-429C-8D2C-A0287BF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971-706E-48A5-B905-FFDDE898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651-9652-494D-97B6-251A612C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ECA-61A7-41B8-892A-D31B346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8C2-DAF7-4E67-8F46-364515A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6751-61FB-45CC-BAF1-106639ABA63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7C1-4099-4EFF-948C-ED0A76C71977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e Shiu and the Two Cities Projects 200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李韶社會經濟考察及雙城考察計劃</a:t>
            </a: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2002</a:t>
            </a:r>
            <a:br>
              <a:rPr sz="2800"/>
            </a:b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JECT  MANAGEMENT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如何策劃研究計劃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5720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/6/2002, 1830-21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21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22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1: Introduction to the basic concepts of social research and project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2: Small group discussions on three sample study top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3: Short presentation by particip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4: A sample presentation session by the spea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Zimmerman, D.E. and Muraski, M.L. (1995). The Elements of Information Gathering. Arizona: Oryx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ido, J. (1985). An Introduction to Project Planning,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ed. New York: Industrial Pr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ewis, J.P. (1995). Project Planning, Scheduling &amp; Control, revised ed. New York: McGraw-Hi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Babbie, E.R. (1990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Survey Research Methods,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d. California: Wadswor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wo survey questions for the class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. Would you prefer to be kept abreast of the scores, or would you prefer not to know anything about i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the end of the first 90 minutes, what do you guess would be the result of the scor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&gt; BG+3;  BZ = BG+3; BZ = BG+2; BZ = BG+1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Z = BG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G &gt; BZ+3;  BG = BZ+3; BG = BZ+2; BG = BZ+1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re any academic/intellectual value in this stu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sult of class survey 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zil is playing against Belgium in the World Cup tonigh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% preferred to be kept abreast of the scores,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7% preferred not to know anything about i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7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ess of results at the end of the first 90 minutes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&gt; BG+3 (2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3 (9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2 (68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+1 (15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 = BG (3%);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G &gt; BZ (3%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e = 64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ur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live with some hospital patients for two days, what do you like to observ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development of bio-technology industries in Hong Kong, how would you conduct your library resear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4:19Z</dcterms:modified>
  <cp:revision>83</cp:revision>
  <dc:subject/>
  <dc:title>Project Overview</dc:title>
</cp:coreProperties>
</file>