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3AA2-963B-4C81-9DB8-A3CEE0441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2BEB-CFF4-4879-8E12-81E0FB3F3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8392-5B63-4908-9BE9-6E4C79DF0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0A3D-AD60-4C9D-A708-BFC66BD89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C55F6-3CD9-4571-81BF-67A80428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2691D-B7A1-4A39-BB7D-F863143C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B238A-76B8-4866-834D-A1613FFF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FA07A-DD4B-426E-9810-4300C4BE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21BD7-74E9-4466-BDF9-89D7DDDF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5D32C-9164-469B-94CA-2A9808B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C7E60-BF53-4A7D-A5B1-AA4D8376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077E-BA66-4E4D-B298-0AF4D6F23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4B280-1634-45E5-917B-3063CF1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545C1-6230-4B58-A3A4-A1181384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A94C0-4082-485F-8CA2-452ECDF7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1A10B-8A86-430F-98BA-1514793A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C092D-65CC-4C6F-9A7F-2FD6E855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D7F0-DCA2-45FA-91D7-B1B205E58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DEF85-B7E7-438B-A164-552DF4CFA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33F0-30BF-450E-9228-0B13227F1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1F0D0-C7CE-47CF-9D1B-16C12577B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27EB-24BB-4312-918E-16DE510E8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361E-185E-49E0-9FFD-CD31F3AEA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6245-CFE5-4963-B2C0-9E6444509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187E-1417-4544-80DE-9F43A405DB0E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4061-299F-4AD4-8BEE-FBB02C96A3F0}" type="datetime"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15/07/28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CBD-5CE5-4CB9-A1CF-45072A977258}" type="slidenum"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worldallergy.org/prefessional/allergic_disease_center/foodallergy" TargetMode="External"/><Relationship Id="rId4" Type="http://schemas.openxmlformats.org/officeDocument/2006/relationships/hyperlink" Target="http://www.worldallergy.org/prefessional/allergic_disease_center/foodallergy" TargetMode="External"/><Relationship Id="rId5" Type="http://schemas.openxmlformats.org/officeDocument/2006/relationships/hyperlink" Target="http://www.worldallergy.org/prefessional/allergic_disease_center/foodallergy" TargetMode="External"/><Relationship Id="rId6" Type="http://schemas.openxmlformats.org/officeDocument/2006/relationships/hyperlink" Target="http://www.worldallergy.org/prefessional/allergic_disease_center/foodallergy" TargetMode="External"/><Relationship Id="rId7" Type="http://schemas.openxmlformats.org/officeDocument/2006/relationships/hyperlink" Target="http://www.worldallergy.org/prefessional/allergic_disease_center/foodallergy" TargetMode="External"/><Relationship Id="rId8" Type="http://schemas.openxmlformats.org/officeDocument/2006/relationships/hyperlink" Target="http://www.worldallergy.org/prefessional/allergic_disease_center/foodallergy" TargetMode="External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8400" y="1170000"/>
            <a:ext cx="7445520" cy="28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cc66"/>
                </a:solidFill>
                <a:latin typeface="新細明體"/>
              </a:rPr>
              <a:t>母親對嬰兒過敏症狀認知調查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36720" y="4700520"/>
            <a:ext cx="5988240" cy="61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譚一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兒科專科醫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005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年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1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月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22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</a:rPr>
              <a:t>母</a:t>
            </a: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乳是嬰兒最好的食物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6" name="stillen1" descr=""/>
          <p:cNvPicPr/>
          <p:nvPr/>
        </p:nvPicPr>
        <p:blipFill>
          <a:blip r:embed="rId1"/>
          <a:srcRect l="0" t="863" r="1289" b="575"/>
          <a:stretch/>
        </p:blipFill>
        <p:spPr>
          <a:xfrm>
            <a:off x="5619600" y="1720800"/>
            <a:ext cx="3257640" cy="49752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7819" dir="2700000" blurRad="0" rotWithShape="0">
              <a:srgbClr val="cc3300"/>
            </a:outerShdw>
          </a:effectLst>
        </p:spPr>
      </p:pic>
      <p:sp>
        <p:nvSpPr>
          <p:cNvPr id="137" name=""/>
          <p:cNvSpPr/>
          <p:nvPr/>
        </p:nvSpPr>
        <p:spPr>
          <a:xfrm>
            <a:off x="577800" y="1728720"/>
            <a:ext cx="4560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afd00"/>
              </a:buClr>
              <a:buFont typeface="Arial"/>
              <a:buChar char="•"/>
              <a:tabLst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afd00"/>
                </a:solidFill>
                <a:latin typeface="Arial"/>
                <a:ea typeface="新細明體"/>
              </a:rPr>
              <a:t>避免初生嬰兒出現過敏反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afd00"/>
              </a:buClr>
              <a:buFont typeface="Arial"/>
              <a:buChar char="•"/>
              <a:tabLst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afd00"/>
                </a:solidFill>
                <a:latin typeface="Arial"/>
                <a:ea typeface="新細明體"/>
              </a:rPr>
              <a:t> </a:t>
            </a:r>
            <a:r>
              <a:rPr b="1" lang="zh-TW" sz="3600" spc="-1" strike="noStrike">
                <a:solidFill>
                  <a:srgbClr val="fafd00"/>
                </a:solidFill>
                <a:latin typeface="Arial"/>
                <a:ea typeface="新細明體"/>
              </a:rPr>
              <a:t>提供全面的營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tabLst>
                <a:tab algn="l" pos="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998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9600" y="38844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cc66"/>
                </a:solidFill>
                <a:latin typeface="Arial"/>
              </a:rPr>
              <a:t>初</a:t>
            </a:r>
            <a:r>
              <a:rPr b="1" lang="zh-TW" sz="3600" spc="-1" strike="noStrike">
                <a:solidFill>
                  <a:srgbClr val="ffcc66"/>
                </a:solidFill>
                <a:latin typeface="Arial"/>
                <a:ea typeface="新細明體"/>
              </a:rPr>
              <a:t>生嬰兒的腸道免疫系統尚未成熟，容易對外來蛋白質產生過敏反應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22600" y="1650600"/>
            <a:ext cx="44452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index-B5" descr=""/>
          <p:cNvPicPr/>
          <p:nvPr/>
        </p:nvPicPr>
        <p:blipFill>
          <a:blip r:embed="rId1"/>
          <a:srcRect l="9299" t="18499" r="50412" b="10074"/>
          <a:stretch/>
        </p:blipFill>
        <p:spPr>
          <a:xfrm>
            <a:off x="2565360" y="1631880"/>
            <a:ext cx="3635280" cy="4954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28640" y="6553080"/>
            <a:ext cx="58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Sampson H.A.</a:t>
            </a:r>
            <a:r>
              <a:rPr b="0" i="1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 J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 </a:t>
            </a:r>
            <a:r>
              <a:rPr b="0" i="1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Allergy Clin Immunol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新細明體"/>
              </a:rPr>
              <a:t> 2003; 111:S540-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2160" y="836280"/>
            <a:ext cx="8961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新細明體"/>
              </a:rPr>
              <a:t>HA</a:t>
            </a:r>
            <a:r>
              <a:rPr b="1" lang="zh-TW" sz="3200" spc="-1" strike="noStrike">
                <a:solidFill>
                  <a:srgbClr val="ffcc66"/>
                </a:solidFill>
                <a:latin typeface="Arial"/>
                <a:ea typeface="新細明體"/>
              </a:rPr>
              <a:t>奶粉較細的蛋白質粒子，能減低對初生嬰兒未成熟的腸道免疫系統的刺激，減低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新細明體"/>
              </a:rPr>
              <a:t>BB</a:t>
            </a:r>
            <a:r>
              <a:rPr b="1" lang="zh-TW" sz="3200" spc="-1" strike="noStrike">
                <a:solidFill>
                  <a:srgbClr val="ffcc66"/>
                </a:solidFill>
                <a:latin typeface="Arial"/>
                <a:ea typeface="新細明體"/>
              </a:rPr>
              <a:t>過敏機會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88920" y="2003400"/>
            <a:ext cx="7337160" cy="3777840"/>
            <a:chOff x="988920" y="2003400"/>
            <a:chExt cx="7337160" cy="3777840"/>
          </a:xfrm>
        </p:grpSpPr>
        <p:grpSp>
          <p:nvGrpSpPr>
            <p:cNvPr id="144" name=""/>
            <p:cNvGrpSpPr/>
            <p:nvPr/>
          </p:nvGrpSpPr>
          <p:grpSpPr>
            <a:xfrm>
              <a:off x="988920" y="2003400"/>
              <a:ext cx="7337160" cy="3777840"/>
              <a:chOff x="988920" y="2003400"/>
              <a:chExt cx="7337160" cy="3777840"/>
            </a:xfrm>
          </p:grpSpPr>
          <p:pic>
            <p:nvPicPr>
              <p:cNvPr id="1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88920" y="2003400"/>
                <a:ext cx="7337160" cy="37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 txBox="1"/>
              <p:nvPr/>
            </p:nvSpPr>
            <p:spPr>
              <a:xfrm>
                <a:off x="988920" y="2003400"/>
                <a:ext cx="7337160" cy="3777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029480" y="3346560"/>
              <a:ext cx="1160640" cy="3985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419120" y="6176880"/>
            <a:ext cx="6691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Reference: Hays T &amp; Wood R.A. </a:t>
            </a:r>
            <a:r>
              <a:rPr b="0" i="1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Arch Ped adolesc med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 2005:159:810-816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Exl BM et al. </a:t>
            </a:r>
            <a:r>
              <a:rPr b="0" i="1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Eur J Nutr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  <a:ea typeface="新細明體"/>
              </a:rPr>
              <a:t> 2000; 39:145-14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總結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3520" y="1981080"/>
            <a:ext cx="888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初生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嬰兒未成熟的腸胃免疫系統令首年出現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過敏反應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的情況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</a:rPr>
              <a:t>非常普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早期的預防性飲食可減低嬰兒期及日後引致其他過敏症的風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餵哺母乳是最佳的選擇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. 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未能餵哺母乳者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, 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可考慮使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.A.</a:t>
            </a:r>
            <a:r>
              <a:rPr b="1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水解奶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1480" y="247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參考文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9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rgmann RL et al. 1998, ‘ Atopic Dermatitis in early infancy predicts allergic airway disease at 5 years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Clinical and experimental Aller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28, pp. 965-97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xl BM et al. 2000, ‘ Improved general health status in an unselected infant population following an allergen reduced diet-intervention programme: Results until 2 years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Paediatr Gastroenterol Nut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31 (Suppl 2), pp. 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hn EL, Bacharier LB 2005, ‘ The Atopic March: The Pattern of Allergic Disease Development in Childhood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Immunol Allergy Clin N A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25, pp. 231-24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lken S 2004, ‘ Prevention of allergic disease in childhood: clinical and epidemiological aspects of primary and secondary allergy prevention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ediatr Allergy Immuno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15 (Suppl. 16), pp. 9-3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ys T &amp; Wood RA 2005, ‘ A systematic review of the role of hydrolyzed infant formulas in allergy prevention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Arch Pediatr Adolesc M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159, pp. 810-8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參考文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3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st A 2001, ‘ Primary and secondary dietary prevention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ediatr Allergy Immuno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12 (suppl 14), pp.78-8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e SL., Wong W, Lau YL 2004, ‘ Increasing prevalence of allergic rhinitis but not asthma among children in Hong Kong from 1995 to 2001 (Phase 3 International Study of Asthma and Allergies in Childhood)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editar Allergy Immuno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 15, pp.72-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hodes H et al. 2001, ‘ Early life risk factors for adult asthma: A birth cohort study of subjects at risk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Allergy Clin Immuno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108, pp.720-7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aarinen UM &amp; Kajosaari M 1995, ‘ Breastfeeding as prophylaxis against atopic disease; prospective follow-up study until 17 years old’ 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Lance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346, pp. 1065-106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ampson HA 2003, ‘ Food allergy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Allergy Clin Immuno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111, pp. S450-45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參考文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ampson HA 2005, ‘ Food allergy- accurately identifying clinical reactivity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Aller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60 (Suppl. 79), pp. 19-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ergel JM &amp; Paller AS 2003, ‘ Atopic dermatitis and the atopic march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Allergy Clin Immno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 112, pp. S118-1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ong GWK, Leung TF &amp; Fok TF 2004, ‘ ISAAC and risk factors for asthma in the Asia- Pacific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aediatric Respiratory Review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, vol. 5 (Suppl A), S163-S16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ickman M 2005, ‘ When allergies complicate allergies’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Allergy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vol.60 (Suppl. 79), pp. 14-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orld Health Organization 2003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Prevention of Allergy and Allergic Asthm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WHO Document Production Services, Geneva, Switzerl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"/>
              </a:rPr>
              <a:t>世界衛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生組織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/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</a:rPr>
              <a:t>世界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過敏組織</a:t>
            </a:r>
            <a:br>
              <a:rPr sz="4000"/>
            </a:b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預防過敏症及哮喘病會議</a:t>
            </a:r>
            <a:br>
              <a:rPr sz="40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/ WAO meeting on the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evention of Allergy and Allergic Asthma, Geneva, 8-9 January 2002</a:t>
            </a:r>
            <a:br>
              <a:rPr sz="32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1400" y="354456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世界上已超過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</a:rPr>
              <a:t>成人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有過敏傾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大約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5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至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5%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的兒童人口患有哮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哮喘病影響大約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50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萬世界人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兒童過敏情況在香港非常普遍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65040" y="3498840"/>
          <a:ext cx="8566200" cy="2517840"/>
        </p:xfrm>
        <a:graphic>
          <a:graphicData uri="http://schemas.openxmlformats.org/drawingml/2006/table">
            <a:tbl>
              <a:tblPr/>
              <a:tblGrid>
                <a:gridCol w="3106800"/>
                <a:gridCol w="1830240"/>
                <a:gridCol w="2052720"/>
                <a:gridCol w="1576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alence</a:t>
                      </a:r>
                      <a:r>
                        <a:rPr b="1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患病率</a:t>
                      </a: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人數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444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94-1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人數</a:t>
                      </a: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361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thma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哮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fe time Rhinitis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鼻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.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.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lt;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fe time Eczem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濕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.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477720" y="2146320"/>
            <a:ext cx="80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香港兒童過敏性疾病患病率有上升趨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5200" y="6078600"/>
            <a:ext cx="822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Reference: Lee SL, Wong W &amp; Lau Y.L. </a:t>
            </a:r>
            <a:r>
              <a:rPr b="0" i="1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Pediatric Allergy and Immunology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 2004,(15) 72-7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8520" y="550440"/>
            <a:ext cx="809172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"/>
              </a:rPr>
              <a:t>與其他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亞洲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</a:rPr>
              <a:t>國家比較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，</a:t>
            </a:r>
            <a:br>
              <a:rPr sz="4000"/>
            </a:b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香港兒童哮喘患病率</a:t>
            </a:r>
            <a:br>
              <a:rPr sz="4000"/>
            </a:b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排例第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2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位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19240" y="2631960"/>
          <a:ext cx="8713800" cy="2551320"/>
        </p:xfrm>
        <a:graphic>
          <a:graphicData uri="http://schemas.openxmlformats.org/drawingml/2006/table">
            <a:tbl>
              <a:tblPr/>
              <a:tblGrid>
                <a:gridCol w="2284200"/>
                <a:gridCol w="1646280"/>
                <a:gridCol w="1420920"/>
                <a:gridCol w="1771560"/>
                <a:gridCol w="1590840"/>
              </a:tblGrid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ng Kon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香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lays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馬來西亞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gapo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新加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iwa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台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alence(%) of symptoms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患病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thma ever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哮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.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eeze ever </a:t>
                      </a:r>
                      <a:r>
                        <a:rPr b="0" lang="zh-TW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新細明體"/>
                        </a:rPr>
                        <a:t>喘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03040" y="5284800"/>
            <a:ext cx="927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Reference: Wong GWK, Leung TF &amp; Fok TF, </a:t>
            </a:r>
            <a:r>
              <a:rPr b="0" i="1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Paediatric Respiratory Reviews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  <a:ea typeface="Times New Roman"/>
              </a:rPr>
              <a:t> 2004, (5) S163-S16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5480" y="42696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主要食物致敏原 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(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  <a:ea typeface="新細明體"/>
              </a:rPr>
              <a:t>Food Allergens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850680"/>
            <a:ext cx="57452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在</a:t>
            </a:r>
            <a:r>
              <a:rPr b="1" lang="zh-TW" sz="3200" spc="-1" strike="noStrike" u="sng">
                <a:solidFill>
                  <a:srgbClr val="ffffff"/>
                </a:solidFill>
                <a:uFillTx/>
                <a:latin typeface="Times New Roman"/>
                <a:ea typeface="新細明體"/>
              </a:rPr>
              <a:t>嬰兒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常見的食物致敏原有以下各類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牛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雞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花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嬰兒最常見的過敏症狀為    皮膚敏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Milk" descr=""/>
          <p:cNvPicPr/>
          <p:nvPr/>
        </p:nvPicPr>
        <p:blipFill>
          <a:blip r:embed="rId1"/>
          <a:stretch/>
        </p:blipFill>
        <p:spPr>
          <a:xfrm>
            <a:off x="6392880" y="3841920"/>
            <a:ext cx="2262240" cy="2842920"/>
          </a:xfrm>
          <a:prstGeom prst="rect">
            <a:avLst/>
          </a:prstGeom>
          <a:ln w="0">
            <a:noFill/>
          </a:ln>
        </p:spPr>
      </p:pic>
      <p:pic>
        <p:nvPicPr>
          <p:cNvPr id="101" name="egg" descr=""/>
          <p:cNvPicPr/>
          <p:nvPr/>
        </p:nvPicPr>
        <p:blipFill>
          <a:blip r:embed="rId2"/>
          <a:stretch/>
        </p:blipFill>
        <p:spPr>
          <a:xfrm>
            <a:off x="6365880" y="1093680"/>
            <a:ext cx="2292480" cy="2800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36480" y="5394240"/>
            <a:ext cx="30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280" y="5618160"/>
            <a:ext cx="5818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參考文獻</a:t>
            </a: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orld Allergy Organization, viewed 11 November 2005, &lt; 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ea typeface="新細明體"/>
                <a:hlinkClick r:id="rId3"/>
              </a:rPr>
              <a:t>http://www.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ea typeface="新細明體"/>
                <a:hlinkClick r:id="rId4"/>
              </a:rPr>
              <a:t>worldallergy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ea typeface="新細明體"/>
                <a:hlinkClick r:id="rId5"/>
              </a:rPr>
              <a:t>.org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ea typeface="新細明體"/>
                <a:hlinkClick r:id="rId6"/>
              </a:rPr>
              <a:t>prefessional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ea typeface="新細明體"/>
                <a:hlinkClick r:id="rId7"/>
              </a:rPr>
              <a:t>/allergic_disease_center/</a:t>
            </a:r>
            <a:r>
              <a:rPr b="0" lang="en-US" sz="1400" spc="-1" strike="noStrike" u="sng">
                <a:solidFill>
                  <a:srgbClr val="ff0033"/>
                </a:solidFill>
                <a:uFillTx/>
                <a:latin typeface="Times New Roman"/>
                <a:ea typeface="新細明體"/>
                <a:hlinkClick r:id="rId8"/>
              </a:rPr>
              <a:t>foodallerg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gt; ; Sampson H.A.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llergy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2005; 60(S79):19-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4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"/>
              </a:rPr>
              <a:t>連鎖過敏反應 </a:t>
            </a:r>
            <a:r>
              <a:rPr b="1" lang="zh-TW" sz="40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Allergy March)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7800" y="4818240"/>
            <a:ext cx="8321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新細明體"/>
              </a:rPr>
              <a:t>若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Arial"/>
              </a:rPr>
              <a:t>在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新細明體"/>
              </a:rPr>
              <a:t>嬰幼兒期間已誘發過敏感機制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新細明體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nsitization)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新細明體"/>
              </a:rPr>
              <a:t>及出現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Arial"/>
              </a:rPr>
              <a:t>過敏症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，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新細明體"/>
              </a:rPr>
              <a:t>他們在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Arial"/>
              </a:rPr>
              <a:t>成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新細明體"/>
              </a:rPr>
              <a:t>長過程中可能會增加患上其他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Arial"/>
              </a:rPr>
              <a:t>過敏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新細明體"/>
              </a:rPr>
              <a:t>症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Arial"/>
              </a:rPr>
              <a:t>的風險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760" y="6081840"/>
            <a:ext cx="830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rrinen U.M. &amp; Kajosaari 1995; Bergmann RL et al. 1998 ; Host A 2001 ;Spergel JM &amp; Paller AS 2003 ;Rhodes et al. 2001; Sampson H.A. 2003 ; Halken S 2004; Wickman M. 2005; Hahn E. &amp; Bacharier L.B. 200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8960" y="1044720"/>
            <a:ext cx="8202600" cy="4162320"/>
            <a:chOff x="588960" y="1044720"/>
            <a:chExt cx="8202600" cy="41623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588960" y="1044720"/>
              <a:ext cx="8202600" cy="41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703520" y="2997360"/>
              <a:ext cx="842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濕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76960" y="1281240"/>
              <a:ext cx="1490760" cy="65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成年人過敏性哮喘或</a:t>
              </a: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鼻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7200" y="2219400"/>
              <a:ext cx="1490760" cy="58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喘嗚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/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哮喘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45280" y="2038320"/>
              <a:ext cx="842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鼻炎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4880" y="1542960"/>
              <a:ext cx="821880" cy="63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哮喘</a:t>
              </a: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鼻炎</a:t>
              </a: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/</a:t>
              </a:r>
              <a:r>
                <a:rPr b="1" lang="zh-TW" sz="16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濕疹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74840" y="2517840"/>
              <a:ext cx="1644840" cy="58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因食物引起的 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Times New Roman"/>
                  <a:ea typeface="新細明體"/>
                </a:rPr>
                <a:t>過敏症狀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0400" y="4106880"/>
              <a:ext cx="1336680" cy="58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誘發過敏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激發過程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304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</a:rPr>
              <a:t>媽媽</a:t>
            </a: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對於處理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新細明體"/>
              </a:rPr>
              <a:t>BB</a:t>
            </a: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的過敏症狀的警覺性不高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79360" y="2779560"/>
          <a:ext cx="7772400" cy="40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779560"/>
                    <a:ext cx="777240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371600" y="2000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66"/>
                </a:solidFill>
                <a:latin typeface="Arial"/>
                <a:ea typeface="新細明體"/>
              </a:rPr>
              <a:t>你的方法能否成功處理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新細明體"/>
              </a:rPr>
              <a:t>BB</a:t>
            </a:r>
            <a:r>
              <a:rPr b="1" lang="zh-TW" sz="3200" spc="-1" strike="noStrike">
                <a:solidFill>
                  <a:srgbClr val="ffcc66"/>
                </a:solidFill>
                <a:latin typeface="Arial"/>
                <a:ea typeface="新細明體"/>
              </a:rPr>
              <a:t>的過敏症狀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715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基數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= 1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864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cc66"/>
                </a:solidFill>
                <a:latin typeface="Arial"/>
              </a:rPr>
              <a:t>媽媽</a:t>
            </a: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對於處理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  <a:ea typeface="新細明體"/>
              </a:rPr>
              <a:t>BB</a:t>
            </a:r>
            <a:r>
              <a:rPr b="1" lang="zh-TW" sz="4400" spc="-1" strike="noStrike">
                <a:solidFill>
                  <a:srgbClr val="ffcc66"/>
                </a:solidFill>
                <a:latin typeface="Arial"/>
                <a:ea typeface="新細明體"/>
              </a:rPr>
              <a:t>的過敏症狀的警覺性不高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0600" y="5962320"/>
            <a:ext cx="827856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近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成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(66%)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未能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及暫時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處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B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</a:rPr>
              <a:t>過敏症狀的媽媽當中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，其中近半數不感到有壓力，因為她們完全不覺得是大問題 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(25%) 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或誤以為過敏症狀會慢慢消失 </a:t>
            </a:r>
            <a:r>
              <a:rPr b="1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(75%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49160" y="1308240"/>
          <a:ext cx="797580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08240"/>
                    <a:ext cx="797580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14360" y="5343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基數</a:t>
            </a:r>
            <a:r>
              <a:rPr b="1" lang="zh-TW" sz="2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= 1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8520" y="296640"/>
            <a:ext cx="81090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cc66"/>
                </a:solidFill>
                <a:latin typeface="Arial"/>
                <a:ea typeface="新細明體"/>
              </a:rPr>
              <a:t>母親對初生嬰兒過敏症狀原因認知性高，但她們並不懂預防的方法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440" y="1501920"/>
            <a:ext cx="819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近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7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成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(66%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母親都能指出食物敏感是引致嬰兒過敏症狀的主要原因，大多數更認為首年對食物的選擇是非常重要，可見認知性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近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4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成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(37%)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母親不知道餵哺母乳或使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.A.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奶粉可預防及避免剌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B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未成熟的免疫系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3193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4199040"/>
          <a:ext cx="5424480" cy="26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99040"/>
                    <a:ext cx="542448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568760" y="4278240"/>
          <a:ext cx="4775400" cy="2836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8760" y="4278240"/>
                    <a:ext cx="477540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775040" y="3797280"/>
            <a:ext cx="436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你知唔知道餵哺母乳或使用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.A.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奶粉可預防及避免剌激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B</a:t>
            </a:r>
            <a:r>
              <a:rPr b="1" lang="zh-TW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未成熟的免疫系統？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58840" y="4064040"/>
            <a:ext cx="3822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你能否講出</a:t>
            </a:r>
            <a:r>
              <a:rPr b="1" lang="zh-TW" sz="1600" spc="-1" strike="noStrike" u="sng">
                <a:solidFill>
                  <a:srgbClr val="ffffff"/>
                </a:solidFill>
                <a:uFillTx/>
                <a:latin typeface="新細明體"/>
                <a:ea typeface="Times New Roman"/>
              </a:rPr>
              <a:t>兩項</a:t>
            </a:r>
            <a:r>
              <a:rPr b="1" lang="zh-TW" sz="1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引致嬰兒產生</a:t>
            </a:r>
            <a:br>
              <a:rPr sz="1600"/>
            </a:br>
            <a:r>
              <a:rPr b="1" lang="zh-TW" sz="1600" spc="-1" strike="noStrike">
                <a:solidFill>
                  <a:srgbClr val="ffffff"/>
                </a:solidFill>
                <a:latin typeface="新細明體"/>
                <a:ea typeface="Times New Roman"/>
              </a:rPr>
              <a:t>過敏反應的原因？</a:t>
            </a:r>
            <a:r>
              <a:rPr b="1" lang="zh-TW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11:22:29Z</dcterms:created>
  <dc:creator>bbecker</dc:creator>
  <dc:description>Nestl Nutrition</dc:description>
  <dc:language>en-US</dc:language>
  <cp:lastModifiedBy>HKUPOP</cp:lastModifiedBy>
  <cp:lastPrinted>2002-07-16T15:17:21Z</cp:lastPrinted>
  <dcterms:modified xsi:type="dcterms:W3CDTF">2005-11-24T04:19:33Z</dcterms:modified>
  <cp:revision>114</cp:revision>
  <dc:subject/>
  <dc:title>PowerPoint Presentation</dc:title>
</cp:coreProperties>
</file>