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glas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3F0F-FF8F-4739-8114-104784DA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BBA-DEFE-426B-9136-3D239763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2EF-90A0-4198-B7B1-DEB84494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767-C4B5-4046-9251-315F18EB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EFB-8214-459E-92E5-396EA4C1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98B-2AE4-4A68-8368-7BAEB979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CC0-7780-4E67-9047-9C81B390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42B-1788-41FC-8F5D-8695EFEE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8120" y="759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8D1-2674-419D-996E-677EA1E9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91E-11FD-4B5B-8C75-D8FFF600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1A8-4B65-4E24-BC97-1AFFEC3B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7BB-B0E7-4435-A1FB-A44F49F4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76520"/>
            <a:ext cx="914400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66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66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0329-2A97-445A-A61D-ADA504485EC6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304812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72404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137040" y="645156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Prevent Cartilage Break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ahoma"/>
                <a:ea typeface="新細明體"/>
              </a:rPr>
              <a:t>慎防職業健康陷阱　及早正視關節健康</a:t>
            </a: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骨科專科醫生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何正倫醫生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二零零五年十一月十七日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2720" y="188640"/>
            <a:ext cx="502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背部及腰椎關節痛症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病徵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背痛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腰椎關節彊硬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腳痺痛（坐骨神經痛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22720" y="-360"/>
            <a:ext cx="502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背部及腰椎關節痛症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高危一族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坐姿不正之人士（例如：辦公室文職、職業司機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搬運物件時用力不當及姿勢不當（例如：搬運工人、機場運輸工人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長時間站立之人士（例如：空姐、侍應、售貨員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經常彎身工作之人士（例如：地盤工人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女士（因長時間穿著高跟鞋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22720" y="188640"/>
            <a:ext cx="502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頸椎關節痛症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病徵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頸項痠痛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頸椎關節彊硬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2720" y="188640"/>
            <a:ext cx="502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頸椎關節痛症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35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高危一族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坐姿不正之人士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長時間垂頭或保時同一姿勢之人士（例如：辦公室文職、打字員、電腦工作者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長時間仰頭工作之人士（例如：教師、油漆工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體力勞動人士（例如：運輸工人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7760" y="404280"/>
            <a:ext cx="6095880" cy="6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膝關節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757520"/>
            <a:ext cx="4416480" cy="4483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16480" y="1917720"/>
            <a:ext cx="4724280" cy="42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2720" y="188640"/>
            <a:ext cx="502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膝關節炎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病徵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膝部痠痛無力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蹲下後不易站起來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膝關節彊硬不靈活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上落樓梯無力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20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3333cc"/>
                </a:solidFill>
                <a:uFillTx/>
                <a:latin typeface="Tahoma"/>
                <a:ea typeface="新細明體"/>
              </a:rPr>
              <a:t>高危一族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肥胖人士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長時間蹲坐、跪坐及屈曲膝蓋之人士（例如：辦公室文職、職業司機、水泥工、清潔工人、建築工人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122720" y="188640"/>
            <a:ext cx="502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膝關節炎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34920" y="2205000"/>
            <a:ext cx="2952720" cy="401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022720" y="2133720"/>
            <a:ext cx="2576520" cy="4165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1557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早期病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16286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後期病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520" y="349200"/>
            <a:ext cx="63244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患有骨關節炎的膝部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520" y="349200"/>
            <a:ext cx="63244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患有骨關節炎的膝部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19320" y="1731960"/>
            <a:ext cx="7010280" cy="460548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2666880" y="2895480"/>
            <a:ext cx="5562720" cy="1905120"/>
            <a:chOff x="2666880" y="2895480"/>
            <a:chExt cx="5562720" cy="1905120"/>
          </a:xfrm>
        </p:grpSpPr>
        <p:sp>
          <p:nvSpPr>
            <p:cNvPr id="121" name=""/>
            <p:cNvSpPr/>
            <p:nvPr/>
          </p:nvSpPr>
          <p:spPr>
            <a:xfrm>
              <a:off x="2666880" y="2895480"/>
              <a:ext cx="2438640" cy="1676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3600" y="2971800"/>
              <a:ext cx="2286000" cy="18288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ahoma"/>
                <a:ea typeface="新細明體"/>
              </a:rPr>
              <a:t>關節炎治療方法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3200" y="763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              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關節痛症的由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1773360"/>
            <a:ext cx="2951280" cy="12826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軟骨退化、關節磨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及肌肉萎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4653000"/>
            <a:ext cx="3095640" cy="12952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關節炎 </a:t>
            </a:r>
            <a:r>
              <a:rPr b="1" lang="en-US" sz="24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/ </a:t>
            </a:r>
            <a:r>
              <a:rPr b="1" lang="zh-TW" sz="24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關節功能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5157720"/>
            <a:ext cx="2879640" cy="11527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藥物治療或手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844640"/>
            <a:ext cx="3384720" cy="11397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全身共有超過</a:t>
            </a:r>
            <a:r>
              <a:rPr b="1" lang="en-US" sz="24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200</a:t>
            </a:r>
            <a:r>
              <a:rPr b="1" lang="zh-TW" sz="24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個關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5960" y="2192400"/>
            <a:ext cx="1440000" cy="43164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3779640" y="5300640"/>
            <a:ext cx="1439640" cy="432000"/>
          </a:xfrm>
          <a:custGeom>
            <a:avLst/>
            <a:gdLst>
              <a:gd name="textAreaLeft" fmla="*/ 252000 w 1439640"/>
              <a:gd name="textAreaRight" fmla="*/ 1044000 w 1439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5356440" y="3669480"/>
            <a:ext cx="1440000" cy="43164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3284640"/>
            <a:ext cx="865080" cy="43164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93080" y="3860640"/>
            <a:ext cx="1800000" cy="5050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影響工作及心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211280" y="4076280"/>
            <a:ext cx="1081080" cy="576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3573360"/>
            <a:ext cx="2952720" cy="5050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ffff"/>
                </a:solidFill>
                <a:latin typeface="News Gothic MT"/>
                <a:ea typeface="新細明體"/>
              </a:rPr>
              <a:t>長遠來說，影響生活質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4149360"/>
            <a:ext cx="0" cy="86508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7760" y="333000"/>
            <a:ext cx="60958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治療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適宜的鍛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物理治療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藥物治療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外科手術治療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27432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ahoma"/>
                <a:ea typeface="新細明體"/>
              </a:rPr>
              <a:t>預早保護關節的重要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8120" y="342720"/>
            <a:ext cx="64008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上班一族保關節的方法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控制體重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注意工作或運動的姿勢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切勿長時間重複同一動作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避免超負荷活動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：</a:t>
            </a: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反復蹲坐、上下樓梯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培養正確的坐姿，抬重物的方式、不可背屈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適量的運動（例如：游泳、太極、伸展運動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適當飲食、保健品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7168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cc"/>
                </a:solidFill>
                <a:latin typeface="Arial"/>
                <a:ea typeface="新細明體"/>
              </a:rPr>
              <a:t>由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新細明體"/>
              </a:rPr>
              <a:t>Cardiff University</a:t>
            </a:r>
            <a:r>
              <a:rPr b="1" lang="zh-TW" sz="1800" spc="-1" strike="noStrike">
                <a:solidFill>
                  <a:srgbClr val="3333cc"/>
                </a:solidFill>
                <a:latin typeface="Arial"/>
                <a:ea typeface="新細明體"/>
              </a:rPr>
              <a:t>的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新細明體"/>
              </a:rPr>
              <a:t>Professor Caterson</a:t>
            </a:r>
            <a:r>
              <a:rPr b="1" lang="zh-TW" sz="1800" spc="-1" strike="noStrike">
                <a:solidFill>
                  <a:srgbClr val="3333cc"/>
                </a:solidFill>
                <a:latin typeface="Arial"/>
                <a:ea typeface="新細明體"/>
              </a:rPr>
              <a:t>領導下，首次全球在人體進行關節炎臨床測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新細明體"/>
              </a:rPr>
              <a:t>31</a:t>
            </a:r>
            <a:r>
              <a:rPr b="1" lang="zh-TW" sz="1800" spc="-1" strike="noStrike">
                <a:solidFill>
                  <a:srgbClr val="3333cc"/>
                </a:solidFill>
                <a:latin typeface="Arial"/>
                <a:ea typeface="新細明體"/>
              </a:rPr>
              <a:t>名英國關節炎病人在進行膝關節更換手術前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  <a:ea typeface="新細明體"/>
              </a:rPr>
              <a:t>10-12</a:t>
            </a:r>
            <a:r>
              <a:rPr b="1" lang="zh-TW" sz="1800" spc="-1" strike="noStrike">
                <a:solidFill>
                  <a:srgbClr val="3333cc"/>
                </a:solidFill>
                <a:latin typeface="Arial"/>
                <a:ea typeface="新細明體"/>
              </a:rPr>
              <a:t>星期獲邀請進行臨床測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cc"/>
                </a:solidFill>
                <a:latin typeface="Arial"/>
                <a:ea typeface="新細明體"/>
              </a:rPr>
              <a:t>他／她們有一半每天服用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新細明體"/>
              </a:rPr>
              <a:t>Triomega(</a:t>
            </a:r>
            <a:r>
              <a:rPr b="1" lang="zh-TW" sz="1600" spc="-1" strike="noStrike">
                <a:solidFill>
                  <a:srgbClr val="3333cc"/>
                </a:solidFill>
                <a:latin typeface="Arial"/>
                <a:ea typeface="新細明體"/>
              </a:rPr>
              <a:t>加強魚肝油丸</a:t>
            </a:r>
            <a:r>
              <a:rPr b="1" lang="zh-TW" sz="1600" spc="-1" strike="noStrike">
                <a:solidFill>
                  <a:srgbClr val="3333cc"/>
                </a:solidFill>
                <a:latin typeface="Arial"/>
                <a:ea typeface="新細明體"/>
              </a:rPr>
              <a:t>)</a:t>
            </a:r>
            <a:r>
              <a:rPr b="1" lang="zh-TW" sz="1600" spc="-1" strike="noStrike">
                <a:solidFill>
                  <a:srgbClr val="3333cc"/>
                </a:solidFill>
                <a:latin typeface="Arial"/>
                <a:ea typeface="新細明體"/>
              </a:rPr>
              <a:t>，其餘的一半服用安慰油丸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cc"/>
                </a:solidFill>
                <a:latin typeface="Arial"/>
                <a:ea typeface="新細明體"/>
              </a:rPr>
              <a:t>在接受手術時，他／她們的軟骨和關節組織被抽出以進行化驗及研究軟骨退化的情況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99"/>
              </a:buClr>
              <a:buFont typeface="News Gothic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 Gothic MT"/>
                <a:ea typeface="新細明體"/>
              </a:rPr>
              <a:t>86%</a:t>
            </a:r>
            <a:r>
              <a:rPr b="1" lang="zh-TW" sz="1800" spc="-1" strike="noStrike">
                <a:solidFill>
                  <a:srgbClr val="3333cc"/>
                </a:solidFill>
                <a:latin typeface="News Gothic MT"/>
                <a:ea typeface="新細明體"/>
              </a:rPr>
              <a:t>關節炎病患者服用</a:t>
            </a:r>
            <a:r>
              <a:rPr b="1" lang="en-US" sz="1800" spc="-1" strike="noStrike">
                <a:solidFill>
                  <a:srgbClr val="3333cc"/>
                </a:solidFill>
                <a:latin typeface="News Gothic MT"/>
                <a:ea typeface="新細明體"/>
              </a:rPr>
              <a:t>Triomega(</a:t>
            </a:r>
            <a:r>
              <a:rPr b="1" lang="zh-TW" sz="1800" spc="-1" strike="noStrike">
                <a:solidFill>
                  <a:srgbClr val="3333cc"/>
                </a:solidFill>
                <a:latin typeface="News Gothic MT"/>
                <a:ea typeface="新細明體"/>
              </a:rPr>
              <a:t>加強魚肝油丸</a:t>
            </a:r>
            <a:r>
              <a:rPr b="1" lang="zh-TW" sz="1800" spc="-1" strike="noStrike">
                <a:solidFill>
                  <a:srgbClr val="3333cc"/>
                </a:solidFill>
                <a:latin typeface="News Gothic MT"/>
                <a:ea typeface="新細明體"/>
              </a:rPr>
              <a:t>)</a:t>
            </a:r>
            <a:r>
              <a:rPr b="1" lang="en-US" sz="1800" spc="-1" strike="noStrike">
                <a:solidFill>
                  <a:srgbClr val="3333cc"/>
                </a:solidFill>
                <a:latin typeface="News Gothic MT"/>
                <a:ea typeface="新細明體"/>
              </a:rPr>
              <a:t> </a:t>
            </a:r>
            <a:r>
              <a:rPr b="1" lang="zh-TW" sz="1800" spc="-1" strike="noStrike">
                <a:solidFill>
                  <a:srgbClr val="3333cc"/>
                </a:solidFill>
                <a:latin typeface="News Gothic MT"/>
                <a:ea typeface="新細明體"/>
              </a:rPr>
              <a:t>後，體內導致軟骨損壞的酵素完全消失或大大減低，相比服用安慰油丸的病人中，只有</a:t>
            </a:r>
            <a:r>
              <a:rPr b="1" lang="en-US" sz="1800" spc="-1" strike="noStrike">
                <a:solidFill>
                  <a:srgbClr val="3333cc"/>
                </a:solidFill>
                <a:latin typeface="News Gothic MT"/>
                <a:ea typeface="新細明體"/>
              </a:rPr>
              <a:t>26%</a:t>
            </a:r>
            <a:r>
              <a:rPr b="1" lang="zh-TW" sz="1800" spc="-1" strike="noStrike">
                <a:solidFill>
                  <a:srgbClr val="3333cc"/>
                </a:solidFill>
                <a:latin typeface="News Gothic MT"/>
                <a:ea typeface="新細明體"/>
              </a:rPr>
              <a:t>能出現類似的好轉情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48640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資料來源：</a:t>
            </a:r>
            <a:r>
              <a:rPr b="0" i="1" lang="en-US" sz="1600" spc="-1" strike="noStrike">
                <a:solidFill>
                  <a:srgbClr val="000000"/>
                </a:solidFill>
                <a:latin typeface="News Gothic MT"/>
                <a:ea typeface="新細明體"/>
              </a:rPr>
              <a:t>Study on “High Strength Cod Liver Oil on Arthritis patients” in United Kingdom, Cardiff University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15228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新細明體"/>
              </a:rPr>
              <a:t>Triomega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  <a:ea typeface="新細明體"/>
              </a:rPr>
              <a:t>對膝關節病人的成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cc"/>
                </a:solidFill>
                <a:latin typeface="Tahoma"/>
                <a:ea typeface="新細明體"/>
              </a:rPr>
              <a:t>　謝謝！</a:t>
            </a:r>
            <a:endParaRPr b="1" lang="en-US" sz="5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93960" y="759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導致關節炎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/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退化</a:t>
            </a: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的危險因素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46320" y="1913040"/>
          <a:ext cx="6651000" cy="4122360"/>
        </p:xfrm>
        <a:graphic>
          <a:graphicData uri="http://schemas.openxmlformats.org/drawingml/2006/table">
            <a:tbl>
              <a:tblPr/>
              <a:tblGrid>
                <a:gridCol w="2099160"/>
                <a:gridCol w="2391480"/>
                <a:gridCol w="2160360"/>
              </a:tblGrid>
              <a:tr h="78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個人生活取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患有後天疾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患有先天性疾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33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肥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關節受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關節因工作或消閒活動而長期受壓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因運動而令韌帶、半月板受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舊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神經線系統問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糖尿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骨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先天性關節缺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先天遺傳性骨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肢端肥大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6699"/>
                        </a:buClr>
                        <a:buFont typeface="Wingdings" charset="2"/>
                        <a:buChar char="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  <a:ea typeface="新細明體"/>
                        </a:rPr>
                        <a:t>血友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84360" y="3429000"/>
            <a:ext cx="273528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419724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-2486160" y="18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039920" cy="4267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23880" y="1905120"/>
            <a:ext cx="71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銷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482920"/>
            <a:ext cx="9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肩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3168720"/>
            <a:ext cx="107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杵臼關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4038480"/>
            <a:ext cx="93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肩胛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4876920"/>
            <a:ext cx="793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肱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41400" y="6095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正常肩關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20720" y="189000"/>
            <a:ext cx="482292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肩關節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肩周炎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640" y="1828800"/>
            <a:ext cx="590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3333cc"/>
                </a:solidFill>
                <a:uFillTx/>
                <a:latin typeface="新細明體"/>
                <a:ea typeface="新細明體"/>
              </a:rPr>
              <a:t>病徵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  <a:ea typeface="新細明體"/>
              </a:rPr>
              <a:t>肩膊活動能力受阻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  <a:ea typeface="新細明體"/>
              </a:rPr>
              <a:t>無法舉手及轉動手臂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  <a:ea typeface="新細明體"/>
              </a:rPr>
              <a:t>肩袖隱隱作痛 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20000" y="2421000"/>
            <a:ext cx="17762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Tahoma"/>
                <a:ea typeface="新細明體"/>
              </a:rPr>
              <a:t>肩周炎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82880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3333cc"/>
                </a:solidFill>
                <a:uFillTx/>
                <a:latin typeface="新細明體"/>
                <a:ea typeface="新細明體"/>
              </a:rPr>
              <a:t>高危一族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  <a:ea typeface="新細明體"/>
              </a:rPr>
              <a:t>肩袖曾受微創或勞損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  <a:ea typeface="新細明體"/>
              </a:rPr>
              <a:t>姿態不良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  <a:ea typeface="新細明體"/>
              </a:rPr>
              <a:t>經常舉重物件之人士（例如：搬運工人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  <a:ea typeface="新細明體"/>
              </a:rPr>
              <a:t>長時間重覆舉手動作（例如：教師、圖書館管理員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  <a:ea typeface="新細明體"/>
              </a:rPr>
              <a:t>重覆性做同一手部動作之人士（例如：空姐、侍應、文員、電腦打字員）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網  球  肘　（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  <a:ea typeface="新細明體"/>
              </a:rPr>
              <a:t>病肱骨外上髁炎 ）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6240" y="185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64000" y="1773360"/>
            <a:ext cx="4608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3333cc"/>
                </a:solidFill>
                <a:uFillTx/>
                <a:latin typeface="新細明體"/>
                <a:ea typeface="新細明體"/>
              </a:rPr>
              <a:t>病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  <a:ea typeface="新細明體"/>
              </a:rPr>
              <a:t>在肱骨外髁附近會有壓痛感，有的疼痛會放射到前臂、腕部或上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  <a:ea typeface="新細明體"/>
              </a:rPr>
              <a:t>無法提拿重物、握物無力，嚴重的話連握在手中的物品也會自行掉下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新細明體"/>
                <a:ea typeface="新細明體"/>
              </a:rPr>
              <a:t>無法很完全的做肘部屈伸動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84360" y="177336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24000" y="1484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News Gothic MT"/>
                <a:ea typeface="新細明體"/>
              </a:rPr>
              <a:t>肱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55640" y="1828800"/>
            <a:ext cx="640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3333cc"/>
                </a:solidFill>
                <a:uFillTx/>
                <a:latin typeface="新細明體"/>
                <a:ea typeface="新細明體"/>
              </a:rPr>
              <a:t>高危一族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家庭主婦（因經常需要切菜、炒菜、打掃、拖地、抱孩子等） 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cc"/>
                </a:solidFill>
                <a:latin typeface="Tahoma"/>
                <a:ea typeface="新細明體"/>
              </a:rPr>
              <a:t>在工作上需要前臂經常用力旋轉、反覆敲打或搬重物的人</a:t>
            </a:r>
            <a:endParaRPr b="1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ahoma"/>
                <a:ea typeface="新細明體"/>
              </a:rPr>
              <a:t>（例如：酒店管家服務員、侍應、速遞員、運輸工人、打字員、油漆工、水泥工等。）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網  球  肘　（病肱骨外上髁炎 ）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529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5546520" y="171756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ertebral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15040" y="27082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ervertebral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809520" y="198108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43400" y="3048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5480" y="533412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cet j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923120" y="3831120"/>
            <a:ext cx="2958840" cy="1760760"/>
          </a:xfrm>
          <a:prstGeom prst="line">
            <a:avLst/>
          </a:prstGeom>
          <a:ln w="93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04240" y="213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椎骨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0424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椎間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26000" y="5734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小平面關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00720" y="188640"/>
            <a:ext cx="4643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脊椎關節（腰椎及頸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新細明體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7:18:41Z</dcterms:created>
  <dc:creator>Philip Davies</dc:creator>
  <dc:description/>
  <dc:language>en-US</dc:language>
  <cp:lastModifiedBy>HKUPOP</cp:lastModifiedBy>
  <cp:lastPrinted>2004-05-19T09:03:44Z</cp:lastPrinted>
  <dcterms:modified xsi:type="dcterms:W3CDTF">2005-11-18T04:07:32Z</dcterms:modified>
  <cp:revision>390</cp:revision>
  <dc:subject/>
  <dc:title>No Slide Title</dc:title>
</cp:coreProperties>
</file>