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5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3944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224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7160" y="937224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C70EFE-1191-4D86-ABB5-808676803CD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01800" y="4686120"/>
            <a:ext cx="4951440" cy="44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6C4-FFF2-4A64-8430-4BD45F66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2DF-E504-42F5-8554-758B666F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458-67F1-4943-B566-AB79DB24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7FF-1D90-4DD0-B380-90922F72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F4B9-16F6-48BA-A455-C2875E8D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C5A-ADA7-426C-A867-9D8D2684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6F0-3321-4A42-93CB-90607ED6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898-183A-47B3-B00C-778DBC5C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951-3C58-474E-A5FE-6DCEB4FB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D14-86E0-4D67-9929-CE6591FE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E06-BCA0-450A-890A-CDF83DFB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139-5C3A-4E04-8C00-D69A2E1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EEAE-2B52-4874-BB7F-E6AA3C6A2E52}" type="slidenum"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香港在職人士關節健康調查</a:t>
            </a: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2005</a:t>
            </a:r>
            <a:br>
              <a:rPr sz="4400"/>
            </a:br>
            <a:r>
              <a:rPr b="1" lang="zh-TW" sz="3200" spc="-1" strike="noStrike">
                <a:solidFill>
                  <a:srgbClr val="ffff99"/>
                </a:solidFill>
                <a:latin typeface="Times New Roman"/>
              </a:rPr>
              <a:t>調查結果簡報</a:t>
            </a:r>
            <a:br>
              <a:rPr sz="3600"/>
            </a:br>
            <a:br>
              <a:rPr sz="4000"/>
            </a:br>
            <a:r>
              <a:rPr b="1" lang="zh-TW" sz="2800" spc="-1" strike="noStrike">
                <a:solidFill>
                  <a:srgbClr val="ffff99"/>
                </a:solidFill>
                <a:latin typeface="Times New Roman"/>
              </a:rPr>
              <a:t>鍾庭耀博士</a:t>
            </a:r>
            <a:br>
              <a:rPr sz="3600"/>
            </a:br>
            <a:br>
              <a:rPr sz="2800"/>
            </a:br>
            <a:r>
              <a:rPr b="0" i="1" lang="zh-TW" sz="2800" spc="-1" strike="noStrike">
                <a:solidFill>
                  <a:srgbClr val="ffff99"/>
                </a:solidFill>
                <a:latin typeface="新細明體"/>
              </a:rPr>
              <a:t>2005</a:t>
            </a:r>
            <a:r>
              <a:rPr b="0" i="1" lang="zh-TW" sz="2800" spc="-1" strike="noStrike">
                <a:solidFill>
                  <a:srgbClr val="ffff99"/>
                </a:solidFill>
                <a:latin typeface="新細明體"/>
              </a:rPr>
              <a:t>年</a:t>
            </a:r>
            <a:r>
              <a:rPr b="0" i="1" lang="zh-TW" sz="2800" spc="-1" strike="noStrike">
                <a:solidFill>
                  <a:srgbClr val="ffff99"/>
                </a:solidFill>
                <a:latin typeface="新細明體"/>
              </a:rPr>
              <a:t>11</a:t>
            </a:r>
            <a:r>
              <a:rPr b="0" i="1" lang="zh-TW" sz="2800" spc="-1" strike="noStrike">
                <a:solidFill>
                  <a:srgbClr val="ffff99"/>
                </a:solidFill>
                <a:latin typeface="新細明體"/>
              </a:rPr>
              <a:t>月</a:t>
            </a:r>
            <a:r>
              <a:rPr b="0" i="1" lang="zh-TW" sz="2800" spc="-1" strike="noStrike">
                <a:solidFill>
                  <a:srgbClr val="ffff99"/>
                </a:solidFill>
                <a:latin typeface="新細明體"/>
              </a:rPr>
              <a:t>17</a:t>
            </a:r>
            <a:r>
              <a:rPr b="0" i="1" lang="zh-TW" sz="2800" spc="-1" strike="noStrike">
                <a:solidFill>
                  <a:srgbClr val="ffff99"/>
                </a:solidFill>
                <a:latin typeface="新細明體"/>
              </a:rPr>
              <a:t>日</a:t>
            </a:r>
            <a:br>
              <a:rPr sz="3200"/>
            </a:b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12193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Times New Roman"/>
              </a:rPr>
              <a:t>香港大學民意研究計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The University of Hong Kong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99"/>
                </a:solidFill>
                <a:latin typeface="Arial"/>
              </a:rPr>
              <a:t>Public Opinion Programm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90720" y="762120"/>
          <a:ext cx="1828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1828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99"/>
                </a:solidFill>
                <a:latin typeface="新細明體"/>
              </a:rPr>
              <a:t>與被訪者工作有關的狀況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(3/3)</a:t>
            </a:r>
            <a:r>
              <a:rPr b="1" lang="zh-TW" sz="4200" spc="-1" strike="noStrike">
                <a:solidFill>
                  <a:srgbClr val="ffff99"/>
                </a:solidFill>
                <a:latin typeface="新細明體"/>
              </a:rPr>
              <a:t> </a:t>
            </a:r>
            <a:br>
              <a:rPr sz="4200"/>
            </a:b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新細明體"/>
              </a:rPr>
              <a:t>（佔回答人數百分比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00280" y="2057400"/>
          <a:ext cx="7543800" cy="3673440"/>
        </p:xfrm>
        <a:graphic>
          <a:graphicData uri="http://schemas.openxmlformats.org/drawingml/2006/table">
            <a:tbl>
              <a:tblPr/>
              <a:tblGrid>
                <a:gridCol w="6035400"/>
                <a:gridCol w="15084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工作有關的情況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百分比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</a:t>
                      </a: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17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有限的工作空間</a:t>
                      </a: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即不容許隨意伸展</a:t>
                      </a: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8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工作時需要運送物料（如烹調器皿、銷售貨品）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櫈子不符合人體工程學設計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4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工作時需要運送重型物料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22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工作需要穿著高踭鞋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2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枱櫈過高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8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新細明體"/>
                        </a:rPr>
                        <a:t>以上全部都沒有</a:t>
                      </a: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關節痛或活動不靈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對工作效率／表現的影響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962000"/>
          <a:ext cx="8372520" cy="426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2000"/>
                    <a:ext cx="837252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731520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1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關節痛或活動不靈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對家庭生活或社交生活的影響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1880" y="2021040"/>
          <a:ext cx="8399520" cy="44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021040"/>
                    <a:ext cx="8399520" cy="44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731520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1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對營養保健品有助保護關節</a:t>
            </a:r>
            <a:br>
              <a:rPr sz="3600"/>
            </a:br>
            <a:r>
              <a:rPr b="1" lang="zh-TW" sz="3600" spc="-1" strike="noStrike">
                <a:solidFill>
                  <a:srgbClr val="ffff99"/>
                </a:solidFill>
                <a:latin typeface="Times New Roman"/>
              </a:rPr>
              <a:t>或紓緩關節痛楚的認知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1880" y="2021040"/>
          <a:ext cx="8399520" cy="44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2021040"/>
                    <a:ext cx="8399520" cy="44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31520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1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結果總結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被訪者最常感到關節痛的部位為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肩膀及手肘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49%)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和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背部及腰椎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46%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七成以上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被訪者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在工作上感到壓力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77%)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及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因工作過勞而疏於運動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72%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55%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認為其關節痛或活動不靈會直接或間接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影響到工作效率及表現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，而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約四成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被訪者則認為會</a:t>
            </a:r>
            <a:r>
              <a:rPr b="1" lang="zh-TW" sz="3000" spc="-1" strike="noStrike">
                <a:solidFill>
                  <a:srgbClr val="ffff00"/>
                </a:solidFill>
                <a:latin typeface="Times New Roman"/>
              </a:rPr>
              <a:t>其家庭或社交生活受到影響</a:t>
            </a:r>
            <a:r>
              <a:rPr b="1" lang="zh-TW" sz="3000" spc="-1" strike="noStrike">
                <a:solidFill>
                  <a:srgbClr val="ccecff"/>
                </a:solidFill>
                <a:latin typeface="Times New Roman"/>
              </a:rPr>
              <a:t>(36%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45%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被訪者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認知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到服用營養保健品，可保護關節或舒緩關節痛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新細明體"/>
              </a:rPr>
              <a:t>被訪者個人背景資料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性別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80960" y="1371600"/>
          <a:ext cx="8182080" cy="41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1371600"/>
                    <a:ext cx="81820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17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年齡組別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55480" y="1447920"/>
          <a:ext cx="803304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1447920"/>
                    <a:ext cx="80330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458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教育程度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442880"/>
          <a:ext cx="8039160" cy="45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2880"/>
                    <a:ext cx="803916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10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職業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74760" y="1530360"/>
          <a:ext cx="8240760" cy="45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760" y="1530360"/>
                    <a:ext cx="824076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03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Times New Roman"/>
              </a:rPr>
              <a:t>簡報大綱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調查方法及樣本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新細明體"/>
              </a:rPr>
              <a:t>調查結果：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被訪者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經常</a:t>
            </a:r>
            <a:r>
              <a:rPr b="1" lang="zh-TW" sz="2400" spc="-1" strike="noStrike">
                <a:solidFill>
                  <a:srgbClr val="ccffff"/>
                </a:solidFill>
                <a:latin typeface="新細明體"/>
              </a:rPr>
              <a:t>感到關節痛之部位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與被訪者</a:t>
            </a: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工作有關的狀況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關節痛或活動不靈對工作效率／表現的影響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關節痛或活動不靈對家庭生活／社交生活的影響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ecff"/>
                </a:solidFill>
                <a:latin typeface="Times New Roman"/>
              </a:rPr>
              <a:t>對營養保健品有助保護關節或紓緩關節痛楚的</a:t>
            </a:r>
            <a:r>
              <a:rPr b="1" lang="zh-TW" sz="2400" spc="-1" strike="noStrike">
                <a:solidFill>
                  <a:srgbClr val="ccecff"/>
                </a:solidFill>
                <a:latin typeface="新細明體"/>
              </a:rPr>
              <a:t>認知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 algn="just">
              <a:lnSpc>
                <a:spcPct val="125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被訪者個人背景資料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683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8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Times New Roman"/>
              </a:rPr>
              <a:t>行業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1600200"/>
          <a:ext cx="8255160" cy="43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25516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6858000" y="5943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N=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50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99"/>
                </a:solidFill>
                <a:latin typeface="Times New Roman"/>
                <a:ea typeface="細明體"/>
              </a:rPr>
              <a:t>報 告 完 畢</a:t>
            </a:r>
            <a:endParaRPr b="0" lang="en-US" sz="6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詳細報告結果，請瀏覽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Times New Roman"/>
                <a:ea typeface="細明體"/>
              </a:rPr>
              <a:t>http://hkupop.hku.h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276720"/>
            <a:ext cx="80769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新細明體"/>
              </a:rPr>
              <a:t>調查方法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1560" indent="-17715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訪問日期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00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年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5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31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至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6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月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9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日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訪問對象：年齡介乎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25 - 45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歲及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操粵語的</a:t>
            </a:r>
            <a:r>
              <a:rPr b="1" lang="zh-TW" sz="2800" spc="-1" strike="noStrike">
                <a:solidFill>
                  <a:srgbClr val="ccecff"/>
                </a:solidFill>
                <a:latin typeface="Times New Roman"/>
              </a:rPr>
              <a:t>本地在職人士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，並曾經在關節部位上（包括膝蓋關節、腰椎、頸椎、腳胶關節、手胶關節、肩膀、手指關節、腳指關節等部位）感到痛楚或不適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771560" indent="-17715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調查方法：由訪問員直接進行電話訪問</a:t>
            </a:r>
            <a:r>
              <a:rPr b="1" lang="zh-TW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600" spc="-1" strike="noStrike">
                <a:solidFill>
                  <a:srgbClr val="ffff99"/>
                </a:solidFill>
                <a:latin typeface="Times New Roman"/>
              </a:rPr>
              <a:t>樣本資料</a:t>
            </a:r>
            <a:endParaRPr b="0" lang="en-US" sz="4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86040" indent="-1886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樣本數目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517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個成功個案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86040" indent="-1886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回應比率：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79.2% 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（以符合資格的目標對象計算 ）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86040" indent="-1886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抽樣誤差：少於</a:t>
            </a: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2.2%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1886040" indent="-188604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marL="1886040" indent="-188604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cffff"/>
                </a:solidFill>
                <a:latin typeface="Times New Roman"/>
              </a:rPr>
              <a:t>數據調整 ：根據原始數據按照男女各半分佈情況加權調整後的結果，以「加權」統計方法作出調整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ffff"/>
                </a:solidFill>
                <a:latin typeface="新細明體"/>
              </a:rPr>
              <a:t>調查結果</a:t>
            </a:r>
            <a:endParaRPr b="0" lang="en-US" sz="4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99"/>
                </a:solidFill>
                <a:latin typeface="新細明體"/>
              </a:rPr>
              <a:t>被訪者經常感到關節痛之部位</a:t>
            </a:r>
            <a:br>
              <a:rPr sz="4200"/>
            </a:b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新細明體"/>
              </a:rPr>
              <a:t>（佔回答人數百分比，經常指在十二個月內多於五次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0" y="2063880"/>
          <a:ext cx="8972640" cy="42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2063880"/>
                    <a:ext cx="897264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5773680"/>
            <a:ext cx="7467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基數</a:t>
            </a:r>
            <a:r>
              <a:rPr b="1" lang="zh-TW" sz="2000" spc="-1" strike="noStrike">
                <a:solidFill>
                  <a:srgbClr val="ccecff"/>
                </a:solidFill>
                <a:latin typeface="Times New Roman"/>
              </a:rPr>
              <a:t>= 517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ccecff"/>
                </a:solidFill>
                <a:latin typeface="Times New Roman"/>
              </a:rPr>
              <a:t>*  </a:t>
            </a:r>
            <a:r>
              <a:rPr b="0" lang="zh-TW" sz="1800" spc="-1" strike="noStrike">
                <a:solidFill>
                  <a:srgbClr val="ccecff"/>
                </a:solidFill>
                <a:latin typeface="Times New Roman"/>
              </a:rPr>
              <a:t>在過去十二個月內，身體沒有一個關節部位經常會感到痠痛、痺痛、無力、活動不靈、僵硬、發熱或紅腫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99"/>
                </a:solidFill>
                <a:latin typeface="新細明體"/>
              </a:rPr>
              <a:t>與被訪者工作有關的狀況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(1/3)</a:t>
            </a:r>
            <a:br>
              <a:rPr sz="4200"/>
            </a:br>
            <a:r>
              <a:rPr b="1" lang="zh-TW" sz="44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新細明體"/>
              </a:rPr>
              <a:t>（佔回答人數百分比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00280" y="2286000"/>
          <a:ext cx="7543800" cy="3583080"/>
        </p:xfrm>
        <a:graphic>
          <a:graphicData uri="http://schemas.openxmlformats.org/drawingml/2006/table">
            <a:tbl>
              <a:tblPr/>
              <a:tblGrid>
                <a:gridCol w="6035400"/>
                <a:gridCol w="15084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工作有關的情況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百分比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</a:t>
                      </a: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17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  <a:ea typeface="細明體"/>
                        </a:rPr>
                        <a:t>感到有工作壓力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因為工作過於疲勞而疏於運動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72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連續重複同一動作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58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不端正的坐姿／翹腳／屈膝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5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新細明體"/>
                        </a:rPr>
                        <a:t>缺乏工作之間的小休及放鬆時間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8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新細明體"/>
                        </a:rPr>
                        <a:t>工作時需要長時間維持同一姿勢（長時間指每天超過四小時三十分鐘或以上）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ffff99"/>
                </a:solidFill>
                <a:latin typeface="新細明體"/>
              </a:rPr>
              <a:t>與被訪者工作有關的狀況 </a:t>
            </a:r>
            <a:r>
              <a:rPr b="1" lang="zh-TW" sz="3600" spc="-1" strike="noStrike">
                <a:solidFill>
                  <a:srgbClr val="ffff99"/>
                </a:solidFill>
                <a:latin typeface="新細明體"/>
              </a:rPr>
              <a:t>(2/3)</a:t>
            </a:r>
            <a:r>
              <a:rPr b="1" lang="zh-TW" sz="4200" spc="-1" strike="noStrike">
                <a:solidFill>
                  <a:srgbClr val="ffff99"/>
                </a:solidFill>
                <a:latin typeface="新細明體"/>
              </a:rPr>
              <a:t> </a:t>
            </a:r>
            <a:br>
              <a:rPr sz="4200"/>
            </a:br>
            <a:r>
              <a:rPr b="1" lang="zh-TW" sz="4200" spc="-1" strike="noStrike">
                <a:solidFill>
                  <a:srgbClr val="ffff99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ffff99"/>
                </a:solidFill>
                <a:latin typeface="新細明體"/>
              </a:rPr>
              <a:t>（佔回答人數百分比）</a:t>
            </a: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00280" y="2057400"/>
          <a:ext cx="7543800" cy="4253040"/>
        </p:xfrm>
        <a:graphic>
          <a:graphicData uri="http://schemas.openxmlformats.org/drawingml/2006/table">
            <a:tbl>
              <a:tblPr/>
              <a:tblGrid>
                <a:gridCol w="6035400"/>
                <a:gridCol w="15084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工作有關的情況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百分比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基數</a:t>
                      </a:r>
                      <a:r>
                        <a:rPr b="1" i="1" lang="zh-TW" sz="18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=517) </a:t>
                      </a:r>
                      <a:endParaRPr b="0" lang="en-US" sz="18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工作時需要長時間操作電腦（包括使用電腦螢光幕／電腦打字，長時間指每天超過四小時三十分鐘或以上）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6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1872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每天工作時需要站立超過兩小時或以上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2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每天工作時需要走動超過兩小時或以上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4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每天工作超過十小時或以上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7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曾因工作而受傷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1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工作時需要長時間用手或肩膀支撐使用電話（長時間指每次超過三分鐘或以上）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ccecff"/>
                          </a:solidFill>
                          <a:latin typeface="Times New Roman"/>
                        </a:rPr>
                        <a:t>30%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ecff"/>
                      </a:solidFill>
                    </a:lnL>
                    <a:lnR w="1872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18720">
                      <a:solidFill>
                        <a:srgbClr val="ccec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0:00:10Z</dcterms:created>
  <dc:creator>lee</dc:creator>
  <dc:description/>
  <dc:language>en-US</dc:language>
  <cp:lastModifiedBy>HKUPOP</cp:lastModifiedBy>
  <cp:lastPrinted>2001-04-04T10:00:24Z</cp:lastPrinted>
  <dcterms:modified xsi:type="dcterms:W3CDTF">2005-11-17T03:45:34Z</dcterms:modified>
  <cp:revision>757</cp:revision>
  <dc:subject/>
  <dc:title>無投影片標題</dc:title>
</cp:coreProperties>
</file>