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5840" y="4414680"/>
            <a:ext cx="5026320" cy="4184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A85171-9678-4D7A-9DC7-B391D3ACB9B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915840" y="4414680"/>
            <a:ext cx="502632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5840" y="4414680"/>
            <a:ext cx="502632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915840" y="4414680"/>
            <a:ext cx="502632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82C2-2D87-4C08-BC86-DF7E44A74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790-F5A4-4460-A6E0-5978C31C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E75-48ED-4A55-9B21-3F683DA7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6D2-B25B-45B9-8E99-5E320C6D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E43A-77A2-47C6-B0EF-6738C9DA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BDDE-576B-4E8D-9CE6-4442B27E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3B2A-6588-4DC6-9E50-0D6755FB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394E-28C8-4B24-8368-C8F481E5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BF58-2630-43D0-AD40-E0584376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8D5C-457A-41D5-A363-3AB4A41C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87C3-7399-4107-916D-61390088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EFE-88FB-44F4-9734-BC376458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A437-69FF-4C5F-BA38-A3495A5F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903E-FB4B-4E72-91EE-69243B59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AAAE-8834-4956-B92D-C359900C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9759-4F2F-4C03-A407-C706A34B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1BD9-E039-4B23-A9BE-A5E4DEDF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334E-87D2-4866-BDC9-25E2FDB1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0CF8-DAB5-46D6-A33C-8C9BA325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D40-1133-448F-BCA7-BBB9556C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C3C-E6F1-4728-973B-AB8FE7F0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372E-D5E6-44EA-BB89-3B726AEF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1CA2-A919-4D80-921A-DCAE24DC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869-2E9A-447F-BF6E-6C7BB914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7AAB-EE04-42CE-9D0C-C6D7F953B6B5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447920"/>
            <a:ext cx="79250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37B6-2173-40A3-B971-3C009409D0A6}" type="slidenum"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124080"/>
            <a:ext cx="914400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Arial Narrow"/>
              </a:rPr>
              <a:t>香港青年人上網情況及對互聯網的</a:t>
            </a:r>
            <a:br>
              <a:rPr sz="3600"/>
            </a:br>
            <a:r>
              <a:rPr b="1" lang="zh-TW" sz="3600" spc="-1" strike="noStrike">
                <a:solidFill>
                  <a:srgbClr val="ffff99"/>
                </a:solidFill>
                <a:latin typeface="Arial Narrow"/>
              </a:rPr>
              <a:t>觀感意見調查 </a:t>
            </a:r>
            <a:br>
              <a:rPr sz="36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zh-TW" sz="2400" spc="-1" strike="noStrike">
                <a:solidFill>
                  <a:srgbClr val="ffff99"/>
                </a:solidFill>
                <a:latin typeface="Arial Narrow"/>
              </a:rPr>
              <a:t>調查結果簡報</a:t>
            </a:r>
            <a:br>
              <a:rPr sz="2400"/>
            </a:b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Arial Narrow"/>
              </a:rPr>
              <a:t>鍾庭耀博士</a:t>
            </a:r>
            <a:br>
              <a:rPr sz="2400"/>
            </a:br>
            <a:br>
              <a:rPr sz="2400"/>
            </a:br>
            <a:r>
              <a:rPr b="0" i="1" lang="zh-TW" sz="2400" spc="-1" strike="noStrike">
                <a:solidFill>
                  <a:srgbClr val="ffff99"/>
                </a:solidFill>
                <a:latin typeface="Arial Narrow"/>
              </a:rPr>
              <a:t>2005</a:t>
            </a:r>
            <a:r>
              <a:rPr b="0" i="1" lang="zh-TW" sz="2400" spc="-1" strike="noStrike">
                <a:solidFill>
                  <a:srgbClr val="ffff99"/>
                </a:solidFill>
                <a:latin typeface="Arial Narrow"/>
              </a:rPr>
              <a:t>年</a:t>
            </a:r>
            <a:r>
              <a:rPr b="0" i="1" lang="zh-TW" sz="2400" spc="-1" strike="noStrike">
                <a:solidFill>
                  <a:srgbClr val="ffff99"/>
                </a:solidFill>
                <a:latin typeface="Arial Narrow"/>
              </a:rPr>
              <a:t>10</a:t>
            </a:r>
            <a:r>
              <a:rPr b="0" i="1" lang="zh-TW" sz="2400" spc="-1" strike="noStrike">
                <a:solidFill>
                  <a:srgbClr val="ffff99"/>
                </a:solidFill>
                <a:latin typeface="Arial Narrow"/>
              </a:rPr>
              <a:t>月</a:t>
            </a:r>
            <a:r>
              <a:rPr b="0" i="1" lang="zh-TW" sz="2400" spc="-1" strike="noStrike">
                <a:solidFill>
                  <a:srgbClr val="ffff99"/>
                </a:solidFill>
                <a:latin typeface="Arial Narrow"/>
              </a:rPr>
              <a:t>11</a:t>
            </a:r>
            <a:r>
              <a:rPr b="0" i="1" lang="zh-TW" sz="2400" spc="-1" strike="noStrike">
                <a:solidFill>
                  <a:srgbClr val="ffff99"/>
                </a:solidFill>
                <a:latin typeface="Arial Narrow"/>
              </a:rPr>
              <a:t>日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79380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19320" y="457200"/>
          <a:ext cx="18288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18288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33520" y="2590920"/>
            <a:ext cx="82296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4191120"/>
            <a:ext cx="8229600" cy="0"/>
          </a:xfrm>
          <a:prstGeom prst="line">
            <a:avLst/>
          </a:prstGeom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活動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4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新細明體"/>
              </a:rPr>
              <a:t>閱讀新聞 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74760" y="1965240"/>
          <a:ext cx="8543880" cy="397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965240"/>
                    <a:ext cx="854388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36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0840" y="160020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3.7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活動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5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新細明體"/>
              </a:rPr>
              <a:t>網上遊戲</a:t>
            </a:r>
            <a:r>
              <a:rPr b="1" lang="zh-TW" sz="3600" spc="-1" strike="noStrike">
                <a:solidFill>
                  <a:srgbClr val="eaeaea"/>
                </a:solidFill>
                <a:latin typeface="細明體"/>
                <a:ea typeface="細明體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2255760"/>
          <a:ext cx="8534520" cy="34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55760"/>
                    <a:ext cx="853452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34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38560" y="167652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3.7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活動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6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新細明體"/>
              </a:rPr>
              <a:t>blog</a:t>
            </a:r>
            <a:r>
              <a:rPr b="1" lang="zh-TW" sz="3600" spc="-1" strike="noStrike">
                <a:solidFill>
                  <a:srgbClr val="eaeaea"/>
                </a:solidFill>
                <a:latin typeface="新細明體"/>
              </a:rPr>
              <a:t>／網上討論 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74760" y="1963800"/>
          <a:ext cx="8543880" cy="397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963800"/>
                    <a:ext cx="854388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32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3640" y="175248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3.7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活動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7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細明體"/>
                <a:ea typeface="細明體"/>
              </a:rPr>
              <a:t>購物／拍賣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74760" y="2124000"/>
          <a:ext cx="8543880" cy="38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2124000"/>
                    <a:ext cx="854388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23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05040" y="160020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5.8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活動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8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新細明體"/>
              </a:rPr>
              <a:t>自創網站</a:t>
            </a:r>
            <a:r>
              <a:rPr b="1" lang="zh-TW" sz="3600" spc="-1" strike="noStrike">
                <a:solidFill>
                  <a:srgbClr val="eaeaea"/>
                </a:solidFill>
                <a:latin typeface="細明體"/>
                <a:ea typeface="細明體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74760" y="2124000"/>
          <a:ext cx="8543880" cy="381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2124000"/>
                    <a:ext cx="8543880" cy="38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18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29080" y="137160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6.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你在網上最常做既活動是什麼？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30040" y="2252520"/>
          <a:ext cx="8977320" cy="360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2252520"/>
                    <a:ext cx="897732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3962520" y="5867280"/>
            <a:ext cx="123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7800" y="16002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百分比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2209680"/>
            <a:ext cx="5867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cc99"/>
                </a:solidFill>
                <a:latin typeface="新細明體"/>
              </a:rPr>
              <a:t>青年人在網上世界最最常做的活動是</a:t>
            </a:r>
            <a:r>
              <a:rPr b="1" lang="zh-TW" sz="2000" spc="-1" strike="noStrike">
                <a:solidFill>
                  <a:srgbClr val="ffcc99"/>
                </a:solidFill>
                <a:latin typeface="新細明體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ffcc99"/>
                </a:solidFill>
                <a:latin typeface="Times New Roman"/>
              </a:rPr>
              <a:t>互動溝通（網上聊天／電郵／結交新</a:t>
            </a:r>
            <a:r>
              <a:rPr b="1" lang="zh-TW" sz="22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朋友）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青年人在網上最常做的活動 </a:t>
            </a:r>
            <a:br>
              <a:rPr sz="3200"/>
            </a:b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綜合平均排名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1682640"/>
          <a:ext cx="8380440" cy="353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82640"/>
                    <a:ext cx="8380440" cy="35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09480" y="533412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活動排列次序為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至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，平均排名越低代表越普遍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(  )</a:t>
            </a:r>
            <a:r>
              <a:rPr b="1" lang="zh-TW" sz="2000" spc="-1" strike="noStrike">
                <a:solidFill>
                  <a:srgbClr val="eaeaea"/>
                </a:solidFill>
                <a:latin typeface="新細明體"/>
              </a:rPr>
              <a:t>為該活動最多被訪者選擇的排名。</a:t>
            </a:r>
            <a:r>
              <a:rPr b="0" lang="zh-TW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你認為投入網上世界有助提升或者改善以下邊種人際關係？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8600" y="2133720"/>
          <a:ext cx="9488520" cy="419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33720"/>
                    <a:ext cx="9488520" cy="41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914400" y="1828800"/>
            <a:ext cx="7467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新細明體"/>
              </a:rPr>
              <a:t>佔總樣本百分比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1" lang="zh-TW" sz="2000" spc="-1" strike="noStrike">
                <a:solidFill>
                  <a:srgbClr val="eaeaea"/>
                </a:solidFill>
                <a:latin typeface="新細明體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502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ffff99"/>
                </a:solidFill>
                <a:latin typeface="新細明體"/>
              </a:rPr>
              <a:t>   </a:t>
            </a:r>
            <a:r>
              <a:rPr b="1" lang="zh-TW" sz="3400" spc="-1" strike="noStrike">
                <a:solidFill>
                  <a:srgbClr val="ffff99"/>
                </a:solidFill>
                <a:latin typeface="新細明體"/>
              </a:rPr>
              <a:t>你認為網上世界最重要的功能是甚麼？請依重要次序排列，最重要功能排第</a:t>
            </a:r>
            <a:r>
              <a:rPr b="1" lang="zh-TW" sz="3400" spc="-1" strike="noStrike">
                <a:solidFill>
                  <a:srgbClr val="ffff99"/>
                </a:solidFill>
                <a:latin typeface="新細明體"/>
              </a:rPr>
              <a:t>1</a:t>
            </a:r>
            <a:r>
              <a:rPr b="1" lang="zh-TW" sz="3400" spc="-1" strike="noStrike">
                <a:solidFill>
                  <a:srgbClr val="ffff99"/>
                </a:solidFill>
                <a:latin typeface="新細明體"/>
              </a:rPr>
              <a:t>，其次既排第</a:t>
            </a:r>
            <a:r>
              <a:rPr b="1" lang="zh-TW" sz="3400" spc="-1" strike="noStrike">
                <a:solidFill>
                  <a:srgbClr val="ffff99"/>
                </a:solidFill>
                <a:latin typeface="新細明體"/>
              </a:rPr>
              <a:t>2</a:t>
            </a:r>
            <a:r>
              <a:rPr b="1" lang="zh-TW" sz="3400" spc="-1" strike="noStrike">
                <a:solidFill>
                  <a:srgbClr val="ffff99"/>
                </a:solidFill>
                <a:latin typeface="新細明體"/>
              </a:rPr>
              <a:t>，如此類推。</a:t>
            </a:r>
            <a:br>
              <a:rPr sz="3400"/>
            </a:br>
            <a:r>
              <a:rPr b="1" lang="zh-TW" sz="3400" spc="-1" strike="noStrike">
                <a:solidFill>
                  <a:srgbClr val="ffff99"/>
                </a:solidFill>
                <a:latin typeface="細明體"/>
                <a:ea typeface="細明體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267080"/>
            <a:ext cx="7924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功能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1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細明體"/>
                <a:ea typeface="細明體"/>
              </a:rPr>
              <a:t>消閒娛樂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80880" y="2222640"/>
          <a:ext cx="8534520" cy="348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2640"/>
                    <a:ext cx="8534520" cy="34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4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05040" y="160020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2.6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Arial Narrow"/>
              </a:rPr>
              <a:t>簡報大綱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 Narrow"/>
              </a:rPr>
              <a:t>調查方法及樣本資料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15360" indent="-31536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新細明體"/>
              </a:rPr>
              <a:t>調查結果：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</a:rPr>
              <a:t>青年人在網上最常做的活動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</a:rPr>
              <a:t>認為投入網上世界有助提升或改善的人際關係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</a:rPr>
              <a:t>認為網上世界最重要的功能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</a:rPr>
              <a:t>除了工作或學習時間，以及睡眠和休息時間，青年人最希望的每日上網時間</a:t>
            </a:r>
            <a:r>
              <a:rPr b="1" lang="zh-TW" sz="2400" spc="-1" strike="noStrike">
                <a:solidFill>
                  <a:srgbClr val="eaeaea"/>
                </a:solidFill>
                <a:latin typeface="新細明體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</a:rPr>
              <a:t>青年人選擇陪伴上網的家人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15360" indent="-31536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 Narrow"/>
              </a:rPr>
              <a:t>被訪者個人背景資料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1" marL="683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功能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2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新細明體"/>
              </a:rPr>
              <a:t>掌握全球資訊、國際時事等 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2340000"/>
          <a:ext cx="8534520" cy="33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40000"/>
                    <a:ext cx="8534520" cy="33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43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05040" y="160020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2.9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功能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3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細明體"/>
                <a:ea typeface="細明體"/>
              </a:rPr>
              <a:t>減壓</a:t>
            </a:r>
            <a:r>
              <a:rPr b="1" lang="zh-TW" sz="3600" spc="-1" strike="noStrike">
                <a:solidFill>
                  <a:srgbClr val="eaeaea"/>
                </a:solidFill>
                <a:latin typeface="新細明體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74760" y="2124000"/>
          <a:ext cx="8543880" cy="365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2124000"/>
                    <a:ext cx="8543880" cy="36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40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05040" y="160020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3.4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功能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4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細明體"/>
                <a:ea typeface="細明體"/>
              </a:rPr>
              <a:t>訓練蒐集資料及整理的能力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74760" y="2203560"/>
          <a:ext cx="8543880" cy="365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2203560"/>
                    <a:ext cx="854388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3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4400" y="1600200"/>
            <a:ext cx="24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3.6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3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功能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5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細明體"/>
                <a:ea typeface="細明體"/>
              </a:rPr>
              <a:t>參考各方不同意見同時抒發己見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80880" y="2438280"/>
          <a:ext cx="8543880" cy="357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38280"/>
                    <a:ext cx="8543880" cy="35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37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05040" y="160020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3.8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功能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6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新細明體"/>
              </a:rPr>
              <a:t>工餘網上進修或學習</a:t>
            </a:r>
            <a:r>
              <a:rPr b="1" lang="zh-TW" sz="3600" spc="-1" strike="noStrike">
                <a:solidFill>
                  <a:srgbClr val="eaeaea"/>
                </a:solidFill>
                <a:latin typeface="細明體"/>
                <a:ea typeface="細明體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80880" y="2438280"/>
          <a:ext cx="8534520" cy="382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38280"/>
                    <a:ext cx="8534520" cy="38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35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609588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05040" y="160020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4.3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功能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7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新細明體"/>
              </a:rPr>
              <a:t>啟發創造力、個人潛能及思維發展</a:t>
            </a:r>
            <a:r>
              <a:rPr b="1" lang="zh-TW" sz="3600" spc="-1" strike="noStrike">
                <a:solidFill>
                  <a:srgbClr val="eaeaea"/>
                </a:solidFill>
                <a:latin typeface="細明體"/>
                <a:ea typeface="細明體"/>
              </a:rPr>
              <a:t> 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74760" y="2203560"/>
          <a:ext cx="8543880" cy="365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2203560"/>
                    <a:ext cx="8543880" cy="36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31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5240" y="1600200"/>
            <a:ext cx="24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4.7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6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青少年認為網上世界最重要的功能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44520" y="2389320"/>
          <a:ext cx="8848800" cy="34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2389320"/>
                    <a:ext cx="884880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3657600" y="5867280"/>
            <a:ext cx="12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7800" y="16002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eaeaea"/>
                </a:solidFill>
                <a:latin typeface="Times New Roman"/>
              </a:rPr>
              <a:t>百分比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2057400"/>
            <a:ext cx="5867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cc99"/>
                </a:solidFill>
                <a:latin typeface="新細明體"/>
              </a:rPr>
              <a:t>青年人認為網上世界最重要的功能是</a:t>
            </a:r>
            <a:r>
              <a:rPr b="1" lang="zh-TW" sz="2000" spc="-1" strike="noStrike">
                <a:solidFill>
                  <a:srgbClr val="ffcc99"/>
                </a:solidFill>
                <a:latin typeface="新細明體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cc99"/>
                </a:solidFill>
                <a:latin typeface="新細明體"/>
              </a:rPr>
              <a:t>消閒娛樂</a:t>
            </a:r>
            <a:r>
              <a:rPr b="1" lang="zh-TW" sz="2200" spc="-1" strike="noStrike">
                <a:solidFill>
                  <a:srgbClr val="ffcc99"/>
                </a:solidFill>
                <a:latin typeface="Times New Roman"/>
              </a:rPr>
              <a:t>，其次是掌握全球資訊、國際時事等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網上世界最重要的功能</a:t>
            </a:r>
            <a:br>
              <a:rPr sz="3200"/>
            </a:b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綜合平均排名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09480" y="1981080"/>
          <a:ext cx="8001000" cy="28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800100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09480" y="4952880"/>
            <a:ext cx="72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功能排列次序為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至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，平均排名越低代表越重要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(  )</a:t>
            </a:r>
            <a:r>
              <a:rPr b="1" lang="zh-TW" sz="2000" spc="-1" strike="noStrike">
                <a:solidFill>
                  <a:srgbClr val="eaeaea"/>
                </a:solidFill>
                <a:latin typeface="新細明體"/>
              </a:rPr>
              <a:t>為該功能最多被訪者選擇的排名。</a:t>
            </a:r>
            <a:r>
              <a:rPr b="0" lang="zh-TW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青少年每日的時間分配</a:t>
            </a: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(1)</a:t>
            </a:r>
            <a:br>
              <a:rPr sz="3200"/>
            </a:br>
            <a:r>
              <a:rPr b="1" lang="zh-TW" sz="3200" spc="-1" strike="noStrike">
                <a:solidFill>
                  <a:srgbClr val="ffcc99"/>
                </a:solidFill>
                <a:latin typeface="Times New Roman"/>
              </a:rPr>
              <a:t>工作或學習時間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-228600" y="3048120"/>
          <a:ext cx="8763120" cy="343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3048120"/>
                    <a:ext cx="876312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04920" y="1828800"/>
          <a:ext cx="4098960" cy="907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409896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62120" y="60958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50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青少年每日的時間分配</a:t>
            </a: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(2)</a:t>
            </a:r>
            <a:br>
              <a:rPr sz="3200"/>
            </a:br>
            <a:r>
              <a:rPr b="1" lang="zh-TW" sz="3200" spc="-1" strike="noStrike">
                <a:solidFill>
                  <a:srgbClr val="ffcc99"/>
                </a:solidFill>
                <a:latin typeface="Times New Roman"/>
              </a:rPr>
              <a:t>睡眠</a:t>
            </a:r>
            <a:r>
              <a:rPr b="1" lang="zh-TW" sz="3200" spc="-1" strike="noStrike">
                <a:solidFill>
                  <a:srgbClr val="ffcc99"/>
                </a:solidFill>
                <a:latin typeface="Times New Roman"/>
              </a:rPr>
              <a:t>/</a:t>
            </a:r>
            <a:r>
              <a:rPr b="1" lang="zh-TW" sz="3200" spc="-1" strike="noStrike">
                <a:solidFill>
                  <a:srgbClr val="ffcc99"/>
                </a:solidFill>
                <a:latin typeface="Times New Roman"/>
              </a:rPr>
              <a:t>休息既時間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1828800"/>
          <a:ext cx="8918640" cy="596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918640" cy="59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762120" y="60958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50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04920" y="1828800"/>
          <a:ext cx="4098960" cy="907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409896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2925360"/>
            <a:ext cx="777240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cc"/>
                </a:solidFill>
                <a:latin typeface="新細明體"/>
              </a:rPr>
              <a:t>調查方法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4572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青少年每日的時間分配</a:t>
            </a: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TW" sz="3200" spc="-1" strike="noStrike">
                <a:solidFill>
                  <a:srgbClr val="ffff99"/>
                </a:solidFill>
                <a:latin typeface="新細明體"/>
              </a:rPr>
              <a:t>(3)</a:t>
            </a:r>
            <a:br>
              <a:rPr sz="3200"/>
            </a:br>
            <a:r>
              <a:rPr b="1" lang="zh-TW" sz="3200" spc="-1" strike="noStrike">
                <a:solidFill>
                  <a:srgbClr val="ffcc99"/>
                </a:solidFill>
                <a:latin typeface="Times New Roman"/>
              </a:rPr>
              <a:t>青少年最希望的每日上網時間</a:t>
            </a:r>
            <a:endParaRPr b="0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3048120"/>
          <a:ext cx="863748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8120"/>
                    <a:ext cx="8637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762120" y="60958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50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04920" y="1828800"/>
          <a:ext cx="4098960" cy="907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409896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假如你必須選擇與一位家人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(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必須為直系親屬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)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一齊上網，你會選擇邊一位？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-1905120" y="914400"/>
          <a:ext cx="11354040" cy="64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5120" y="914400"/>
                    <a:ext cx="1135404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685800" y="60958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50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685800" y="3016080"/>
            <a:ext cx="777240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cc"/>
                </a:solidFill>
                <a:latin typeface="新細明體"/>
              </a:rPr>
              <a:t>被訪者個人背景資料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838080" y="410760"/>
            <a:ext cx="792504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Arial Narrow"/>
              </a:rPr>
              <a:t>性別</a:t>
            </a:r>
            <a:r>
              <a:rPr b="0" lang="zh-TW" sz="44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81040" y="1754280"/>
          <a:ext cx="8182080" cy="411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754280"/>
                    <a:ext cx="818208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50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838080" y="410760"/>
            <a:ext cx="792504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Arial Narrow"/>
              </a:rPr>
              <a:t>年齡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55480" y="1447920"/>
          <a:ext cx="8033040" cy="448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1447920"/>
                    <a:ext cx="803304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50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838080" y="410760"/>
            <a:ext cx="792504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Arial Narrow"/>
              </a:rPr>
              <a:t>教育程度</a:t>
            </a:r>
            <a:r>
              <a:rPr b="0" lang="zh-TW" sz="44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33520" y="1731960"/>
          <a:ext cx="8254800" cy="427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31960"/>
                    <a:ext cx="825480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50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學生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/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在職人士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5" name=""/>
          <p:cNvSpPr/>
          <p:nvPr/>
        </p:nvSpPr>
        <p:spPr>
          <a:xfrm>
            <a:off x="5410080" y="6095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50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33520" y="1731960"/>
          <a:ext cx="8254800" cy="427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31960"/>
                    <a:ext cx="825480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358920" y="1635120"/>
          <a:ext cx="8143560" cy="4449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920" y="1635120"/>
                    <a:ext cx="8143560" cy="44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Arial Narrow"/>
              </a:rPr>
              <a:t>總結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2280" y="21333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是次被訪的青少年在網上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最常做的活動是互動溝通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（網上聊天／電郵／結交新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朋友）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，而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較少做的活動是購物／拍賣及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自創網站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 。</a:t>
            </a:r>
            <a:endParaRPr b="0" lang="en-US" sz="2200" spc="-1" strike="noStrike">
              <a:solidFill>
                <a:srgbClr val="eaeaea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超過八成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被訪青少年認為投入網上世界有助提升或改善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  <a:ea typeface="細明體"/>
              </a:rPr>
              <a:t>自己與已相識朋友或同學的聯繫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(81%)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，其次是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  <a:ea typeface="細明體"/>
              </a:rPr>
              <a:t>自己與非日常接觸的人與事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(45%)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eaeaea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青少年認為網上世界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最重要的功能是消閒娛樂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 ，其次是掌握全球資訊、國際時事等。</a:t>
            </a:r>
            <a:endParaRPr b="0" lang="en-US" sz="2200" spc="-1" strike="noStrike">
              <a:solidFill>
                <a:srgbClr val="eaeaea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被訪青少年每日的工作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學習時間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平均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佔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  <a:ea typeface="Arial Unicode MS"/>
              </a:rPr>
              <a:t>8.2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小時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，而睡眠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休息時間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平均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佔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  <a:ea typeface="Arial Unicode MS"/>
              </a:rPr>
              <a:t>7.4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小時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，最希望的每日上網時間則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平均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佔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2.8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小時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eaeaea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假如被訪青少年必須選擇與一位家人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必須為直系親屬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一同上網，大多數會選擇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兄弟姊妹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(69%)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，其次是母親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(20%)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和父親</a:t>
            </a:r>
            <a:r>
              <a:rPr b="1" lang="zh-TW" sz="2200" spc="-1" strike="noStrike">
                <a:solidFill>
                  <a:srgbClr val="ccffcc"/>
                </a:solidFill>
                <a:latin typeface="Times New Roman"/>
              </a:rPr>
              <a:t>(9%)</a:t>
            </a:r>
            <a:r>
              <a:rPr b="1" lang="zh-TW" sz="22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690560"/>
            <a:ext cx="7772400" cy="14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Arial Narrow"/>
                <a:ea typeface="細明體"/>
              </a:rPr>
              <a:t>報 告 完 畢</a:t>
            </a:r>
            <a:endParaRPr b="0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0" y="4191120"/>
            <a:ext cx="91440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Arial Narrow"/>
                <a:ea typeface="細明體"/>
              </a:rPr>
              <a:t>詳細報告結果，請瀏覽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細明體"/>
              </a:rPr>
              <a:t>http://hkupop.hku.hk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Arial Narrow"/>
              </a:rPr>
              <a:t>樣本資料</a:t>
            </a:r>
            <a:endParaRPr b="0" lang="en-US" sz="4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4800" indent="-1774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訪問日期：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2005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9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23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至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27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日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774800" indent="-17748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訪問對象：年齡介乎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16 - 22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歲，在過去十二個月內曾經使用互聯網並操粵語的青年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774800" indent="-17748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調查方法：由訪問員直接進行電話訪問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774800" indent="-1774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樣本數目：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502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個成功個案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774800" indent="-1774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回應比率：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84.2% 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（以符合資格的目標對象計算 ）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774800" indent="-1774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抽樣誤差：少於</a:t>
            </a:r>
            <a:r>
              <a:rPr b="1" lang="zh-TW" sz="2800" spc="-1" strike="noStrike">
                <a:solidFill>
                  <a:srgbClr val="eaeaea"/>
                </a:solidFill>
                <a:latin typeface="Times New Roman"/>
              </a:rPr>
              <a:t>2.2%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774800" indent="-17748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600200"/>
            <a:ext cx="7772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2925360"/>
            <a:ext cx="777240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cc"/>
                </a:solidFill>
                <a:latin typeface="新細明體"/>
              </a:rPr>
              <a:t>調查結果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你在網上最常做既活動是什麼？請排列次序，最常玩既排第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，少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既排第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，如此類推</a:t>
            </a:r>
            <a:r>
              <a:rPr b="1" lang="zh-TW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。</a:t>
            </a:r>
            <a:br>
              <a:rPr sz="20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724280"/>
            <a:ext cx="7848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活動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1)</a:t>
            </a:r>
            <a:br>
              <a:rPr sz="2800"/>
            </a:br>
            <a:r>
              <a:rPr b="1" lang="zh-TW" sz="3500" spc="-1" strike="noStrike">
                <a:solidFill>
                  <a:srgbClr val="eaeaea"/>
                </a:solidFill>
                <a:latin typeface="細明體"/>
                <a:ea typeface="細明體"/>
              </a:rPr>
              <a:t>互動溝通（網上聊天／電郵／結交新朋友）</a:t>
            </a:r>
            <a:br>
              <a:rPr sz="3500"/>
            </a:br>
            <a:endParaRPr b="0" lang="en-US" sz="35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880" y="2057400"/>
          <a:ext cx="8534520" cy="392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853452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45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29080" y="205740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2.2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活動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2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新細明體"/>
              </a:rPr>
              <a:t>找資料 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74760" y="1990800"/>
          <a:ext cx="8543880" cy="392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990800"/>
                    <a:ext cx="8543880" cy="39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41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29080" y="205740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2.9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個別活動排名</a:t>
            </a:r>
            <a:r>
              <a:rPr b="1" lang="zh-TW" sz="2800" spc="-1" strike="noStrike">
                <a:solidFill>
                  <a:srgbClr val="ffff99"/>
                </a:solidFill>
                <a:latin typeface="新細明體"/>
              </a:rPr>
              <a:t>(3)</a:t>
            </a:r>
            <a:br>
              <a:rPr sz="2800"/>
            </a:br>
            <a:r>
              <a:rPr b="1" lang="zh-TW" sz="3600" spc="-1" strike="noStrike">
                <a:solidFill>
                  <a:srgbClr val="eaeaea"/>
                </a:solidFill>
                <a:latin typeface="新細明體"/>
              </a:rPr>
              <a:t>下載／聽音樂或看電視／電影／短片 </a:t>
            </a:r>
            <a:br>
              <a:rPr sz="2800"/>
            </a:b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80880" y="2130480"/>
          <a:ext cx="8534520" cy="381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0480"/>
                    <a:ext cx="85345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57200" y="6172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eaeaea"/>
                </a:solidFill>
                <a:latin typeface="Times New Roman"/>
              </a:rPr>
              <a:t>= 37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579132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排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29080" y="2057400"/>
            <a:ext cx="203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平均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3.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最多人選擇的排名</a:t>
            </a:r>
            <a:r>
              <a:rPr b="0" lang="zh-TW" sz="2400" spc="-1" strike="noStrike">
                <a:solidFill>
                  <a:srgbClr val="eaeaea"/>
                </a:solidFill>
                <a:latin typeface="Times New Roman"/>
              </a:rPr>
              <a:t>: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5-10-12T03:11:22Z</dcterms:modified>
  <cp:revision>853</cp:revision>
  <dc:subject/>
  <dc:title>無投影片標題</dc:title>
</cp:coreProperties>
</file>